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827-BA4E-40CD-A1D3-33D75066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184-BA8F-4C22-9701-37082B3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29F-F424-49D1-B11D-DB261B1A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00B-CDFD-4CB4-A66F-89A06F87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47EF-B9EE-4F15-970F-13585A48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9ED9-F5A1-4D60-92F7-A3017A10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5B4-1057-4CA1-BF8D-9E299553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6F1F-0B5D-495A-AE99-2E7D63FA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6E9-002D-4D66-A2F9-5EE230F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AD8-C379-4A3A-B18A-F1D2CE0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BE4D-70D7-4AF0-AB5F-8A682DCE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3BD-F638-4267-958E-B930426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B182-FB62-4D4D-8F9D-5EA4D42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DB64-5A9F-4CB2-9C32-E6E0DF2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B32D-B59A-4486-8609-073E83B4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5AFD-774A-4910-8A60-C3404A75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1D3-8D58-4CC0-826D-C8540AC3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718-2FB0-44E7-BAB3-20B8816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117-3BB7-4B95-AA3D-FA0E756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44F-11CD-42E0-BE5F-E8D1AB6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480-BF04-40F5-B468-898A1C9F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E70-5EAE-4C8F-923E-19523D30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2C2-EEE2-4E78-8AF2-E2ABF16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A1B-3C34-45DC-987F-BA1C290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3AB40-4A5F-403A-8E92-80ABC93F3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4181E-C438-4AE5-A578-71E7E6B53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s for Imag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in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Instruments 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Mac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atur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duced or custom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for rapid us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 on library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duce human tim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o use a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ability – no user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Processing of Images (100+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cessing or analysis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300 macros onl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s/Linked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 Creation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sequence of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only 1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up redund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“batch”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a b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 Problem – image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Problem – chang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BatchMode(tru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non-require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, letter(s) “string”, or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fined (no int, char, str, double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use for advanced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7:23:24Z</dcterms:created>
  <dc:creator/>
  <dc:description>Presentation Layout Template</dc:description>
  <dc:language>en-US</dc:language>
  <cp:lastModifiedBy/>
  <dcterms:modified xsi:type="dcterms:W3CDTF">2012-04-17T16:55:39Z</dcterms:modified>
  <cp:revision>9</cp:revision>
  <dc:subject/>
  <dc:title>Blue Border</dc:title>
</cp:coreProperties>
</file>