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0396-9E92-4423-B4C3-5B8228EF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D62C-F588-4F13-B758-8D45BBC8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8231-E682-4BE0-9023-2774EF0F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5486-3AD3-498C-B189-19236B02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97B8-7B3A-40FC-8662-FB822C1C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7676-AC8F-4D4E-9E9A-233E748C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DB3A-A094-40DF-8B56-4E0556D4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076D-C46A-4768-AE2B-D86FD89A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481E-C276-40CA-AA6F-398F2441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13B1-2DEB-461B-8050-7A12D887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60F4-1008-4D65-8AE3-9A56CE7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3C25-12CD-46D5-8A9B-42AC5565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8355-141F-4D51-BB55-B1537DDD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E50A-869A-4A59-BC34-21735FF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BE9-10AE-4688-88E5-9E9887CF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4D6B-673A-453F-A9D2-1E83C944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4493-2E17-4470-BB93-7FBFEA0F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75A0-9CB1-4A6E-A5AC-79E91F02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45F5-45D7-4915-8BE7-A5A1D81F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98DE-E272-4F99-B215-68A189B9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4748-487A-4F55-98E7-3C2CAB93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1A1B-C2B4-49B2-9F86-3DE2EF63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086D-E8CB-4F8A-9835-C51DCDED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A676-80D0-4380-ADAC-1ACFC40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5E1E-350A-400A-849D-EEA0978706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F7BD-5781-4DD9-87C9-893F6C9C29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mage Analysis and Process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in Blan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inary Operation Us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185840" cy="106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5228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shold Im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23623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1143000" cy="102564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3429000" y="1676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3467160" y="346716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152280" y="4495680"/>
            <a:ext cx="5067360" cy="13208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1371600" y="4191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48320" y="22860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70572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ary 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6781680" y="2057400"/>
            <a:ext cx="1143000" cy="10256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 rot="5400000">
            <a:off x="6933960" y="32004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4008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5"/>
          <a:stretch/>
        </p:blipFill>
        <p:spPr>
          <a:xfrm>
            <a:off x="6019920" y="3962520"/>
            <a:ext cx="2709720" cy="24318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 rot="10800000">
            <a:off x="5410080" y="4876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“Simple Binary.tif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Image _&gt;Color -&gt; Split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blue image and set thresh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menu select duplic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Process -&gt; Binary select Erode 2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Process select Imag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Image Blue (Difference) Blue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only areas around the nucleus are sel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Break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rithmetic Oper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using one pixel on image A vs. corresponding pixel in Imag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background or shading corr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-base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Channel1 &amp; Channel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Nucleus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shold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Process -&gt;Binary-&gt;Water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Process-&gt;Binary-&gt;Er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Edit-&gt; Invert on channel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Process-&gt;Image Calculator and set Image 2 (AND) Image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reshold on result – do NOT press appl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Analyze -&gt;Analyze P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phological Convolu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each brightness value as a separate binary layer. (eg intensity 0,1 – then intensity 1,2 from 0 to image maxim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Filters on whole image that used to be restricted to bin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more utility without requiring moving image into binary space (saves tim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“Binary vs. Intensity_Intensity.tif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Plugins-&gt;Filters, try various filters and sett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following abilities not found else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yscale Er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yscale Dil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es (Top H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do filters affect data integrity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s are excel f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ters are mathematical calc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the same input the output never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change amounts can be measurably determined (difference between raw &amp; proces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cessing Workflow Op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04920" y="2405880"/>
            <a:ext cx="1752480" cy="368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33720" y="251460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169720"/>
            <a:ext cx="1752480" cy="916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 used to identify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251460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77120" y="1942920"/>
            <a:ext cx="1752480" cy="14655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s taken and processing changes accep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3695400" y="369576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24080" y="4561560"/>
            <a:ext cx="2362320" cy="14655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 data is re-appl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 only used for seg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62720" y="51814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77120" y="4746240"/>
            <a:ext cx="1752480" cy="11912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s taken only on original data a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781680" y="1371600"/>
            <a:ext cx="11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ast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019920" y="6172200"/>
            <a:ext cx="2361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re Accurat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ample Imaging Workflo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Rounded Rectangle 3"/>
          <p:cNvSpPr/>
          <p:nvPr/>
        </p:nvSpPr>
        <p:spPr>
          <a:xfrm>
            <a:off x="380880" y="1523880"/>
            <a:ext cx="129564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cqu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ounded Rectangle 4"/>
          <p:cNvSpPr/>
          <p:nvPr/>
        </p:nvSpPr>
        <p:spPr>
          <a:xfrm>
            <a:off x="213372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ounded Rectangle 5"/>
          <p:cNvSpPr/>
          <p:nvPr/>
        </p:nvSpPr>
        <p:spPr>
          <a:xfrm>
            <a:off x="228600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Lookup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ounded Rectangle 9"/>
          <p:cNvSpPr/>
          <p:nvPr/>
        </p:nvSpPr>
        <p:spPr>
          <a:xfrm>
            <a:off x="2286000" y="251460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ca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1" name="Straight Arrow Connector 24"/>
          <p:cNvCxnSpPr>
            <a:stCxn id="517" idx="3"/>
            <a:endCxn id="518" idx="1"/>
          </p:cNvCxnSpPr>
          <p:nvPr/>
        </p:nvCxnSpPr>
        <p:spPr>
          <a:xfrm>
            <a:off x="1676520" y="1714680"/>
            <a:ext cx="457920" cy="2160"/>
          </a:xfrm>
          <a:prstGeom prst="straightConnector1">
            <a:avLst/>
          </a:prstGeom>
          <a:ln w="9360">
            <a:solidFill>
              <a:srgbClr val="d99229"/>
            </a:solidFill>
            <a:miter/>
            <a:tailEnd len="med" type="arrow" w="med"/>
          </a:ln>
        </p:spPr>
      </p:cxnSp>
      <p:sp>
        <p:nvSpPr>
          <p:cNvPr id="522" name="Rounded Rectangle 4"/>
          <p:cNvSpPr/>
          <p:nvPr/>
        </p:nvSpPr>
        <p:spPr>
          <a:xfrm>
            <a:off x="434340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ounded Rectangle 5"/>
          <p:cNvSpPr/>
          <p:nvPr/>
        </p:nvSpPr>
        <p:spPr>
          <a:xfrm>
            <a:off x="457200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Ker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ounded Rectangle 5"/>
          <p:cNvSpPr/>
          <p:nvPr/>
        </p:nvSpPr>
        <p:spPr>
          <a:xfrm>
            <a:off x="4572000" y="243828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orph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ounded Rectangle 5"/>
          <p:cNvSpPr/>
          <p:nvPr/>
        </p:nvSpPr>
        <p:spPr>
          <a:xfrm>
            <a:off x="4572000" y="28195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rith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ounded Rectangle 5"/>
          <p:cNvSpPr/>
          <p:nvPr/>
        </p:nvSpPr>
        <p:spPr>
          <a:xfrm>
            <a:off x="4572000" y="32004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egmentation (Thresho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2280" y="1219320"/>
            <a:ext cx="4038840" cy="297180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441972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505"/>
                </a:solidFill>
                <a:latin typeface="Arial"/>
              </a:rPr>
              <a:t>Covered in Quantitative Imaging Fundamen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295280" y="3124080"/>
            <a:ext cx="457200" cy="1371600"/>
          </a:xfrm>
          <a:prstGeom prst="line">
            <a:avLst/>
          </a:prstGeom>
          <a:ln w="41400">
            <a:solidFill>
              <a:srgbClr val="ff0505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ample Imaging Workflo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6" name="Rounded Rectangle 3"/>
          <p:cNvSpPr/>
          <p:nvPr/>
        </p:nvSpPr>
        <p:spPr>
          <a:xfrm>
            <a:off x="380880" y="1523880"/>
            <a:ext cx="129564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cqu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ounded Rectangle 4"/>
          <p:cNvSpPr/>
          <p:nvPr/>
        </p:nvSpPr>
        <p:spPr>
          <a:xfrm>
            <a:off x="213372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ounded Rectangle 5"/>
          <p:cNvSpPr/>
          <p:nvPr/>
        </p:nvSpPr>
        <p:spPr>
          <a:xfrm>
            <a:off x="228600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Lookup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ounded Rectangle 9"/>
          <p:cNvSpPr/>
          <p:nvPr/>
        </p:nvSpPr>
        <p:spPr>
          <a:xfrm>
            <a:off x="2286000" y="251460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ca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0" name="Straight Arrow Connector 24"/>
          <p:cNvCxnSpPr>
            <a:stCxn id="616" idx="3"/>
            <a:endCxn id="617" idx="1"/>
          </p:cNvCxnSpPr>
          <p:nvPr/>
        </p:nvCxnSpPr>
        <p:spPr>
          <a:xfrm>
            <a:off x="1676520" y="1714680"/>
            <a:ext cx="457920" cy="2160"/>
          </a:xfrm>
          <a:prstGeom prst="straightConnector1">
            <a:avLst/>
          </a:prstGeom>
          <a:ln w="9360">
            <a:solidFill>
              <a:srgbClr val="d99229"/>
            </a:solidFill>
            <a:miter/>
            <a:tailEnd len="med" type="arrow" w="med"/>
          </a:ln>
        </p:spPr>
      </p:cxnSp>
      <p:sp>
        <p:nvSpPr>
          <p:cNvPr id="621" name="Rounded Rectangle 4"/>
          <p:cNvSpPr/>
          <p:nvPr/>
        </p:nvSpPr>
        <p:spPr>
          <a:xfrm>
            <a:off x="434340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ounded Rectangle 5"/>
          <p:cNvSpPr/>
          <p:nvPr/>
        </p:nvSpPr>
        <p:spPr>
          <a:xfrm>
            <a:off x="457200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Ker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ounded Rectangle 5"/>
          <p:cNvSpPr/>
          <p:nvPr/>
        </p:nvSpPr>
        <p:spPr>
          <a:xfrm>
            <a:off x="4572000" y="243828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orph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ounded Rectangle 5"/>
          <p:cNvSpPr/>
          <p:nvPr/>
        </p:nvSpPr>
        <p:spPr>
          <a:xfrm>
            <a:off x="4572000" y="28195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rith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ounded Rectangle 5"/>
          <p:cNvSpPr/>
          <p:nvPr/>
        </p:nvSpPr>
        <p:spPr>
          <a:xfrm>
            <a:off x="4572000" y="32004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egmentation (Thresho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6" name="Straight Arrow Connector 24"/>
          <p:cNvCxnSpPr>
            <a:stCxn id="617" idx="3"/>
            <a:endCxn id="621" idx="1"/>
          </p:cNvCxnSpPr>
          <p:nvPr/>
        </p:nvCxnSpPr>
        <p:spPr>
          <a:xfrm>
            <a:off x="3448080" y="1714320"/>
            <a:ext cx="876960" cy="1080"/>
          </a:xfrm>
          <a:prstGeom prst="straightConnector1">
            <a:avLst/>
          </a:prstGeom>
          <a:ln w="9360">
            <a:solidFill>
              <a:srgbClr val="d99229"/>
            </a:solidFill>
            <a:miter/>
            <a:tailEnd len="med" type="arrow" w="med"/>
          </a:ln>
        </p:spPr>
      </p:cxnSp>
      <p:sp>
        <p:nvSpPr>
          <p:cNvPr id="627" name="Rounded Rectangle 4"/>
          <p:cNvSpPr/>
          <p:nvPr/>
        </p:nvSpPr>
        <p:spPr>
          <a:xfrm>
            <a:off x="670572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naly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ounded Rectangle 5"/>
          <p:cNvSpPr/>
          <p:nvPr/>
        </p:nvSpPr>
        <p:spPr>
          <a:xfrm>
            <a:off x="693432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rea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ounded Rectangle 5"/>
          <p:cNvSpPr/>
          <p:nvPr/>
        </p:nvSpPr>
        <p:spPr>
          <a:xfrm>
            <a:off x="6934320" y="243828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Object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ounded Rectangle 5"/>
          <p:cNvSpPr/>
          <p:nvPr/>
        </p:nvSpPr>
        <p:spPr>
          <a:xfrm>
            <a:off x="6934320" y="28195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ND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ounded Rectangle 5"/>
          <p:cNvSpPr/>
          <p:nvPr/>
        </p:nvSpPr>
        <p:spPr>
          <a:xfrm>
            <a:off x="6934320" y="32004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dvanced Analy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rea Meas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l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 Meas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 “Morphometric Object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connected pix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xels are thresholded as sig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phometry measurements (used to classify cells/objects etc) can be performed on groups, or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57800" y="4267080"/>
            <a:ext cx="2019240" cy="19908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4343400" y="5105520"/>
            <a:ext cx="1828800" cy="152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4800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dentified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3676680" cy="362412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 Meas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86200" y="3276720"/>
            <a:ext cx="1600200" cy="7617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505320" y="2743200"/>
            <a:ext cx="152388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1320" y="4191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2209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351240" y="2600280"/>
            <a:ext cx="2484360" cy="2560680"/>
          </a:xfrm>
          <a:custGeom>
            <a:avLst/>
            <a:gdLst/>
            <a:ahLst/>
            <a:rect l="l" t="t" r="r" b="b"/>
            <a:pathLst>
              <a:path w="1565" h="1613">
                <a:moveTo>
                  <a:pt x="1005" y="53"/>
                </a:moveTo>
                <a:cubicBezTo>
                  <a:pt x="971" y="76"/>
                  <a:pt x="987" y="73"/>
                  <a:pt x="931" y="60"/>
                </a:cubicBezTo>
                <a:cubicBezTo>
                  <a:pt x="854" y="42"/>
                  <a:pt x="781" y="15"/>
                  <a:pt x="703" y="1"/>
                </a:cubicBezTo>
                <a:cubicBezTo>
                  <a:pt x="654" y="4"/>
                  <a:pt x="604" y="0"/>
                  <a:pt x="555" y="9"/>
                </a:cubicBezTo>
                <a:cubicBezTo>
                  <a:pt x="547" y="10"/>
                  <a:pt x="515" y="62"/>
                  <a:pt x="496" y="75"/>
                </a:cubicBezTo>
                <a:cubicBezTo>
                  <a:pt x="478" y="102"/>
                  <a:pt x="479" y="117"/>
                  <a:pt x="451" y="134"/>
                </a:cubicBezTo>
                <a:cubicBezTo>
                  <a:pt x="442" y="164"/>
                  <a:pt x="431" y="193"/>
                  <a:pt x="422" y="223"/>
                </a:cubicBezTo>
                <a:cubicBezTo>
                  <a:pt x="420" y="260"/>
                  <a:pt x="419" y="297"/>
                  <a:pt x="415" y="334"/>
                </a:cubicBezTo>
                <a:cubicBezTo>
                  <a:pt x="403" y="440"/>
                  <a:pt x="280" y="491"/>
                  <a:pt x="200" y="540"/>
                </a:cubicBezTo>
                <a:cubicBezTo>
                  <a:pt x="185" y="565"/>
                  <a:pt x="141" y="607"/>
                  <a:pt x="141" y="607"/>
                </a:cubicBezTo>
                <a:cubicBezTo>
                  <a:pt x="131" y="637"/>
                  <a:pt x="119" y="648"/>
                  <a:pt x="90" y="659"/>
                </a:cubicBezTo>
                <a:cubicBezTo>
                  <a:pt x="75" y="701"/>
                  <a:pt x="48" y="737"/>
                  <a:pt x="16" y="769"/>
                </a:cubicBezTo>
                <a:cubicBezTo>
                  <a:pt x="22" y="862"/>
                  <a:pt x="0" y="1002"/>
                  <a:pt x="31" y="1087"/>
                </a:cubicBezTo>
                <a:cubicBezTo>
                  <a:pt x="37" y="1324"/>
                  <a:pt x="21" y="1315"/>
                  <a:pt x="67" y="1464"/>
                </a:cubicBezTo>
                <a:cubicBezTo>
                  <a:pt x="81" y="1509"/>
                  <a:pt x="120" y="1527"/>
                  <a:pt x="156" y="1552"/>
                </a:cubicBezTo>
                <a:cubicBezTo>
                  <a:pt x="175" y="1565"/>
                  <a:pt x="223" y="1574"/>
                  <a:pt x="223" y="1574"/>
                </a:cubicBezTo>
                <a:cubicBezTo>
                  <a:pt x="281" y="1613"/>
                  <a:pt x="364" y="1607"/>
                  <a:pt x="429" y="1611"/>
                </a:cubicBezTo>
                <a:cubicBezTo>
                  <a:pt x="508" y="1606"/>
                  <a:pt x="609" y="1605"/>
                  <a:pt x="680" y="1560"/>
                </a:cubicBezTo>
                <a:cubicBezTo>
                  <a:pt x="698" y="1532"/>
                  <a:pt x="729" y="1518"/>
                  <a:pt x="762" y="1508"/>
                </a:cubicBezTo>
                <a:cubicBezTo>
                  <a:pt x="786" y="1491"/>
                  <a:pt x="809" y="1491"/>
                  <a:pt x="835" y="1478"/>
                </a:cubicBezTo>
                <a:cubicBezTo>
                  <a:pt x="876" y="1458"/>
                  <a:pt x="921" y="1422"/>
                  <a:pt x="968" y="1419"/>
                </a:cubicBezTo>
                <a:cubicBezTo>
                  <a:pt x="1027" y="1415"/>
                  <a:pt x="1087" y="1414"/>
                  <a:pt x="1146" y="1412"/>
                </a:cubicBezTo>
                <a:cubicBezTo>
                  <a:pt x="1196" y="1362"/>
                  <a:pt x="1179" y="1385"/>
                  <a:pt x="1205" y="1345"/>
                </a:cubicBezTo>
                <a:cubicBezTo>
                  <a:pt x="1223" y="1288"/>
                  <a:pt x="1245" y="1233"/>
                  <a:pt x="1279" y="1183"/>
                </a:cubicBezTo>
                <a:cubicBezTo>
                  <a:pt x="1291" y="1145"/>
                  <a:pt x="1299" y="1104"/>
                  <a:pt x="1308" y="1065"/>
                </a:cubicBezTo>
                <a:cubicBezTo>
                  <a:pt x="1313" y="1010"/>
                  <a:pt x="1312" y="924"/>
                  <a:pt x="1375" y="902"/>
                </a:cubicBezTo>
                <a:cubicBezTo>
                  <a:pt x="1408" y="852"/>
                  <a:pt x="1387" y="863"/>
                  <a:pt x="1426" y="851"/>
                </a:cubicBezTo>
                <a:cubicBezTo>
                  <a:pt x="1448" y="817"/>
                  <a:pt x="1460" y="830"/>
                  <a:pt x="1485" y="799"/>
                </a:cubicBezTo>
                <a:cubicBezTo>
                  <a:pt x="1496" y="785"/>
                  <a:pt x="1515" y="755"/>
                  <a:pt x="1515" y="755"/>
                </a:cubicBezTo>
                <a:cubicBezTo>
                  <a:pt x="1527" y="715"/>
                  <a:pt x="1547" y="677"/>
                  <a:pt x="1559" y="636"/>
                </a:cubicBezTo>
                <a:cubicBezTo>
                  <a:pt x="1553" y="575"/>
                  <a:pt x="1565" y="502"/>
                  <a:pt x="1507" y="467"/>
                </a:cubicBezTo>
                <a:cubicBezTo>
                  <a:pt x="1496" y="430"/>
                  <a:pt x="1456" y="380"/>
                  <a:pt x="1426" y="356"/>
                </a:cubicBezTo>
                <a:cubicBezTo>
                  <a:pt x="1412" y="345"/>
                  <a:pt x="1382" y="326"/>
                  <a:pt x="1382" y="326"/>
                </a:cubicBezTo>
                <a:cubicBezTo>
                  <a:pt x="1364" y="291"/>
                  <a:pt x="1358" y="278"/>
                  <a:pt x="1323" y="260"/>
                </a:cubicBezTo>
                <a:cubicBezTo>
                  <a:pt x="1283" y="201"/>
                  <a:pt x="1335" y="272"/>
                  <a:pt x="1286" y="223"/>
                </a:cubicBezTo>
                <a:cubicBezTo>
                  <a:pt x="1280" y="217"/>
                  <a:pt x="1278" y="207"/>
                  <a:pt x="1271" y="201"/>
                </a:cubicBezTo>
                <a:cubicBezTo>
                  <a:pt x="1258" y="189"/>
                  <a:pt x="1227" y="171"/>
                  <a:pt x="1227" y="171"/>
                </a:cubicBezTo>
                <a:cubicBezTo>
                  <a:pt x="1216" y="155"/>
                  <a:pt x="1211" y="134"/>
                  <a:pt x="1197" y="120"/>
                </a:cubicBezTo>
                <a:cubicBezTo>
                  <a:pt x="1191" y="114"/>
                  <a:pt x="1182" y="116"/>
                  <a:pt x="1175" y="112"/>
                </a:cubicBezTo>
                <a:cubicBezTo>
                  <a:pt x="1149" y="98"/>
                  <a:pt x="1085" y="54"/>
                  <a:pt x="1057" y="53"/>
                </a:cubicBezTo>
                <a:cubicBezTo>
                  <a:pt x="1003" y="51"/>
                  <a:pt x="949" y="53"/>
                  <a:pt x="895" y="53"/>
                </a:cubicBezTo>
              </a:path>
            </a:pathLst>
          </a:custGeom>
          <a:noFill/>
          <a:ln w="414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66688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581280" y="2666880"/>
            <a:ext cx="5335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fficult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non-square measurements m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2895480" y="2743200"/>
            <a:ext cx="3600720" cy="35496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 flipV="1">
            <a:off x="3352680" y="3809520"/>
            <a:ext cx="2133720" cy="121932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191120" y="3886200"/>
            <a:ext cx="53316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91120" y="4495680"/>
            <a:ext cx="53316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09880" y="4800600"/>
            <a:ext cx="68580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495680" y="4114440"/>
            <a:ext cx="0" cy="6858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495680" y="4114800"/>
            <a:ext cx="68580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resholding on Col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GB vs. H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GB = Add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ed as amount of color in Red Green or B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SI = Perce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ed as occupation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e (Dominant color or color to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ration (Purity of the 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(Magnitude of Sig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Image-&gt;Type-&gt;HSB St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GB vs. HSI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2485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ef6"/>
                </a:solidFill>
                <a:latin typeface="Arial"/>
              </a:rPr>
              <a:t>Q &amp; A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convolution filters in microscopy im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ey affect data Integr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possible to over-process an im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re certain filters appropriate vs. 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image process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nel based conv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phological conv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pecific Fil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ernel Convol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14400" y="1676520"/>
            <a:ext cx="7315200" cy="457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67652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14400" y="1676520"/>
            <a:ext cx="3657600" cy="3886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14400" y="1676520"/>
            <a:ext cx="121932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1676520"/>
            <a:ext cx="121896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52680" y="1676520"/>
            <a:ext cx="121932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2971800"/>
            <a:ext cx="121932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33720" y="2971800"/>
            <a:ext cx="121896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352680" y="2971800"/>
            <a:ext cx="121932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4267080"/>
            <a:ext cx="1219320" cy="1295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4267080"/>
            <a:ext cx="1218960" cy="1295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4267080"/>
            <a:ext cx="1219320" cy="1295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5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5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" autoRev="1" fill="hold"/>
                                        <p:tgtEl>
                                          <p:spTgt spid="5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5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5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5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5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74167 2.22222E-006 E">
                                      <p:cBhvr>
                                        <p:cTn id="166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167 2.22222E-006 L 0.74167 0.1 E">
                                      <p:cBhvr>
                                        <p:cTn id="169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167 0.1 L 0 0.1 E">
                                      <p:cBhvr>
                                        <p:cTn id="172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supplied image “Shapes.tif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Image Menu select “Smooth” fil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o Median Fil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l World Us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“Smooth Example.ti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threshold the image.(lighter areas cannot be segmented from dark areas due to noi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the Smooth filter or median fil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shold the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 use Binarie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a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regional processing within an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Multiple layer arithmetic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 with regions for advanced measur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t areas between two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regions outside or inside of a definable bou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small objects (organelles/processes) within a larger object (cel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inary Oper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295280"/>
            <a:ext cx="7086600" cy="2133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”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19810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304812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0800000">
            <a:off x="230760" y="1904760"/>
            <a:ext cx="45468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828800" y="30481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Axis in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8600" y="3886200"/>
            <a:ext cx="7162920" cy="2133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ary”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4572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" y="563868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0800000">
            <a:off x="230760" y="4495680"/>
            <a:ext cx="45468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Axis in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609480" y="1836720"/>
            <a:ext cx="6629400" cy="12556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685800" y="4341960"/>
            <a:ext cx="6553080" cy="13316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7391520" y="4114800"/>
            <a:ext cx="1752480" cy="15717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 flipV="1">
            <a:off x="1905120" y="4495680"/>
            <a:ext cx="0" cy="9144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905120" y="4495680"/>
            <a:ext cx="36576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562720" y="4495680"/>
            <a:ext cx="0" cy="9144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5410080"/>
            <a:ext cx="9907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62720" y="5410080"/>
            <a:ext cx="13716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7391520" y="1676520"/>
            <a:ext cx="17524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7:16:06Z</dcterms:created>
  <dc:creator>Administrator</dc:creator>
  <dc:description/>
  <dc:language>en-US</dc:language>
  <cp:lastModifiedBy>AB</cp:lastModifiedBy>
  <dcterms:modified xsi:type="dcterms:W3CDTF">2010-01-25T23:36:22Z</dcterms:modified>
  <cp:revision>19</cp:revision>
  <dc:subject/>
  <dc:title>Image Analysis and Processing</dc:title>
</cp:coreProperties>
</file>