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692A-9B98-4575-A289-FC9A1181E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18A74-B8CD-48C0-B365-F6A43C95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65CCB-EA1C-429C-8D1B-B97017DF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7593AC-3433-47D3-B219-7941B5F6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4FCDE-8E09-4CCA-A225-1272D41F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7575E0-6334-44B8-9516-D23C653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63DF75-1D0A-42CD-8C7B-5C0A457E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AB56CB-53E9-4469-AF9C-76265859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DB8F8C-4928-4A84-BCEE-301F8837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A6F67-D43A-422B-BDE3-EEA3E5B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79248-E841-414C-A1C8-673ACD6D3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BFE414-EAF0-466F-958D-561ECE21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A893-6F0F-487B-8C9C-801E5D53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9C9998-9F88-4CE3-8E15-C632502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205BC0-5FE2-4360-9A87-83D390259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03E20C-E71C-4BCF-930F-6BEAC35C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DF8F90-E9FF-4128-AF61-B19DDBAB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047BBD-B3D1-4AD9-939E-19993C55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5749A4-82C2-4E36-8A00-ACE9B511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3BB8A-BF6F-4C1C-9AA7-FCE705EA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7FAFE-87BA-489B-B69B-FD404213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225934-D899-4503-B577-D21937C3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E85410-BF7E-4B30-8A68-9C878E69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CCB6-E0D2-4C66-BF7B-12173C18F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01933-F639-4DD7-9814-5350F2F4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C6F582-A9C8-479C-AB7E-3E660B94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BFE7E7-F063-491A-810F-C3ABFC51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258770-FDD4-4ECD-9575-FC7B95CF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6D3913-CA31-4D64-90A9-5C95599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35330D-AF1E-4B8A-9AF5-2C03E347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E699F6-308C-4FC8-BE4B-58660ABE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4AE6D4-AEF1-47E1-A980-6EF79196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39A6D3-4755-401D-93B9-69DBA2E0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611E6C-338C-4239-9253-B2355615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8F0-7AC2-4FFD-ACDD-856B824B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CF8065-0FD3-4407-87A9-96E7B122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F9F66B-ACFB-4960-9D69-35F0B3A6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BCDC07-DDDB-46E8-B3B3-3F583356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6A36A-2061-41F9-8620-CF4C1187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A253E-5614-4A24-A928-CF92747F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45EEC9-AA85-4F7F-84BD-89A8FA06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10A2BE-5532-4B3B-9D3C-442F1B85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D237FB-2F6B-4A60-BF58-C5FCE9C8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414D5-3EBC-4A36-A6D7-EAB78195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B6F586-CBFA-414B-A30A-5E94EA9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2A44-B28D-4CB0-9B9C-B682FFB9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0B6800-B249-4823-A66B-35AE81A3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5D8D6-67EE-456E-88EA-CE23E715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FC629C-C264-49C9-A6E0-1CB50DBD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FAE63-D90B-4BA5-A4F8-1B2692AC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93A36B-494C-4503-9B76-3ADC6BEC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AB0B-C217-4AD7-81E9-842DE1B6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976C-094A-4365-8D3E-57792921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8C41-235A-44CC-8B0C-1E071156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1D18-429A-475F-85DD-6F95911F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767F-CAB1-4F98-A8C8-8EDE9690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4E70-2C9D-4C7C-89CA-8398667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C368-BB07-4259-A319-C45A8C2E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080F-706E-4A0A-B643-60F652F2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4EF7-6502-4AE3-8A8B-FF766802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DA3F-B0DF-47DC-82A4-5C47EF93A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F331-E5D9-41DE-8EA0-5908FCDBB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2CA27D-DBB2-403B-8EA2-45C5A7E0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762F8-B584-43DF-9671-C2FCC0EB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70D842-283B-48EE-ADFD-1CEE2CEC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C91B47-94C1-4641-B54B-C09A37C1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8A5200-1C83-40A5-A73A-32D6A499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288D-1500-4AB4-9EFA-F5A50661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586137-F979-4579-A27F-48D4334B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4FE031-B2FA-4E16-93A1-39783724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C7DCB1-DE4F-46E8-9C15-50E138A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413661-DAA8-41DE-AE26-3D9CE81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E1511-4C75-4DE4-9D72-C5EFD805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5371A-8DFC-412C-B118-3B12B173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C468C1-4FB4-4B30-89F6-AE1C5431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3C9AB-13B4-41BC-840E-3EE87012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A1DDA0-F26B-463A-BD12-C3620FED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DD336A-F190-4B08-8EFA-64F424D9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780A-04A9-41F9-A3B8-6B0843C0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9FF09-DBB5-4C4B-9605-30EC07CE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160EA6-63A5-4F17-89BF-7C414A71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B79DB7-97E2-4A00-904F-709CD791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74954-BAE6-492E-9F0F-2789D552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717F08-D0BB-49C7-8B27-02F5D486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85CDA-1C49-4E19-A488-3D8A3C17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67CD0-5516-4C7D-9D7D-46FDCE5D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A9F7D-272E-4A71-B023-4B8F4FED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A7B99D-296D-4A40-9854-75E66526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B06AF7-67A2-4779-A6B6-776B870B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D63D-1A6A-4486-BFD8-CC3AA618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D4E1F1-D107-4F19-B7C2-37B77813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344E45-A807-4D83-B99F-EF530D6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81A52-8C07-472A-8E3F-1BF64A9E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9801BF-162C-404B-ADA6-FAF35EA8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BC4E3-B76C-48B8-A27C-FBA87B0F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0CE97-85E9-4DEB-B1A3-5959BF86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F18DC0-BA30-4FC5-A0C5-2DCEC18C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7E514-8E49-4838-A2BA-58C5C894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ABF294-5224-4E31-B97E-93490BA1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BADE1C-FE78-4A68-AAE6-DEC65C5C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1D7C-4C55-480E-BC09-A6AB4C8E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08DF8E-B89F-4244-9008-6400B939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EA0F6A-5A0B-4C12-BF99-56616A2F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B494FE-CFBB-4018-AB9C-52696F3F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3F2E7-5FF3-4FD4-9423-F2183262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339B8F-8397-4BD2-9A71-1051BFBA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3B3DF2-8E17-4CE2-B37A-1CA3AE2A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E16ED9-346D-46FD-A0AC-3EBD63D4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50AEB3-73BE-4593-B4C3-CFF806FA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F0EB6B-FAFC-4D1C-8596-F9C4F33A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753868-AA0B-4E32-A534-CA7EB49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B591-BC98-4CD9-AB87-275D2FB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455CA8-FC29-491C-9CEA-5D72ADE7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B872B-8342-4153-BD47-ED0A1A54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34E5E7-F17B-45D0-AB7D-38E9D375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0D92F8-EC89-4D28-80B0-86443D83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5A75A5-B8B6-4BB0-99FE-82BD73AC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4F9AC5-8508-4BBD-AF45-9DFC556E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727269-E3F1-43BF-8784-3B4876BA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A21472-A472-41AA-B46A-9BE97A37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3D9C47-DC37-4DE7-B6A2-108D2DCE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1D18A8-1659-4202-A596-BFCFE532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F51BE-6F03-4ABD-82B3-4FC66021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C61F3A-766E-4AD5-8C9B-0C910F3D9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E1881-6F3B-4F0A-B193-A7CC443C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90A20-AC24-49C2-9786-8B56C96B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C1A769-CA7A-4984-A431-A57E3AF62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0AE2D8-F16E-44F5-BF7D-BB69420F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EB8E85-BEE8-439F-B5C6-613E962F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32B6D5-AAD4-43AD-A1D4-D9E8520A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917E68-17DD-4F9A-8B80-7049C0D4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1F6E9A-BF55-4825-A6A8-CB31BD2D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AD0D7-AD59-45F3-BB17-63F17602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A688-E001-4B56-B778-41D960A7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AE8580-1B08-4A75-AF71-DB532368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190631-78E8-49AD-8C23-F4171288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B0E3BD-A33D-461C-880A-D4EBBD1B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82ADD0-22DF-49BE-86E9-69873BC6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A81DA3-25B0-4F24-BE60-0F3A4181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007BFC-AC7D-43D1-9890-1EBADB2EB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A5B20F-3B7B-4C43-83E9-AA17EFC4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3B4F8B-729A-438A-BBF6-B6EF5555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8540E-C4BC-4675-8EFA-FBB6A235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2FAAE-7418-411B-9AF2-B192AB76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ECCD-52E9-48A1-9199-D675991E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9B3-8697-4FA2-8C26-CB487BF31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0876-64BF-428B-847D-D69BE226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dt" idx="3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ftr" idx="3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9B00-AD24-4809-9C89-4B7FD40F2D1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dt" idx="3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ftr" idx="3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9999-9CA8-4812-877F-8364893E3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A4A3-FFE7-44D2-8C7C-DED518166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ftr" idx="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C640-47EB-4050-BE2C-94B6E28F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8F6F-7B1F-4E49-81CF-8956A65E6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dt" idx="1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ftr" idx="1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167F-2A4F-426F-925D-43DB85BA0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A7B0-D382-426C-8D33-E4893AB40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dt" idx="2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2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7F27-B36A-4D40-B029-46B4A69F5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1A7B-B813-477C-913A-FBEA39FA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mage Analysis and Processing with Image-J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tin Bla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inary Oper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6" name="Rectangle 3"/>
          <p:cNvSpPr/>
          <p:nvPr/>
        </p:nvSpPr>
        <p:spPr>
          <a:xfrm>
            <a:off x="304920" y="1295280"/>
            <a:ext cx="7086600" cy="2133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”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Line 4"/>
          <p:cNvSpPr/>
          <p:nvPr/>
        </p:nvSpPr>
        <p:spPr>
          <a:xfrm>
            <a:off x="685800" y="19810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Line 5"/>
          <p:cNvSpPr/>
          <p:nvPr/>
        </p:nvSpPr>
        <p:spPr>
          <a:xfrm>
            <a:off x="685800" y="3048120"/>
            <a:ext cx="5562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 rot="10800000">
            <a:off x="230760" y="1904760"/>
            <a:ext cx="45468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1828800" y="30481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Axis in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8"/>
          <p:cNvSpPr/>
          <p:nvPr/>
        </p:nvSpPr>
        <p:spPr>
          <a:xfrm>
            <a:off x="228600" y="3886200"/>
            <a:ext cx="7162920" cy="21337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ary”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Line 9"/>
          <p:cNvSpPr/>
          <p:nvPr/>
        </p:nvSpPr>
        <p:spPr>
          <a:xfrm>
            <a:off x="685800" y="4572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Line 10"/>
          <p:cNvSpPr/>
          <p:nvPr/>
        </p:nvSpPr>
        <p:spPr>
          <a:xfrm>
            <a:off x="685800" y="5638680"/>
            <a:ext cx="5638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Text Box 11"/>
          <p:cNvSpPr/>
          <p:nvPr/>
        </p:nvSpPr>
        <p:spPr>
          <a:xfrm rot="10800000">
            <a:off x="230760" y="4495680"/>
            <a:ext cx="45468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12"/>
          <p:cNvSpPr/>
          <p:nvPr/>
        </p:nvSpPr>
        <p:spPr>
          <a:xfrm>
            <a:off x="1828800" y="56386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Axis in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6" name="Picture 13" descr=""/>
          <p:cNvPicPr/>
          <p:nvPr/>
        </p:nvPicPr>
        <p:blipFill>
          <a:blip r:embed="rId1"/>
          <a:stretch/>
        </p:blipFill>
        <p:spPr>
          <a:xfrm>
            <a:off x="609480" y="1836720"/>
            <a:ext cx="6629400" cy="12556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4" descr=""/>
          <p:cNvPicPr/>
          <p:nvPr/>
        </p:nvPicPr>
        <p:blipFill>
          <a:blip r:embed="rId2"/>
          <a:stretch/>
        </p:blipFill>
        <p:spPr>
          <a:xfrm>
            <a:off x="685800" y="4341960"/>
            <a:ext cx="6553080" cy="133164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5" descr=""/>
          <p:cNvPicPr/>
          <p:nvPr/>
        </p:nvPicPr>
        <p:blipFill>
          <a:blip r:embed="rId3"/>
          <a:stretch/>
        </p:blipFill>
        <p:spPr>
          <a:xfrm>
            <a:off x="7391520" y="4114800"/>
            <a:ext cx="1752480" cy="1571760"/>
          </a:xfrm>
          <a:prstGeom prst="rect">
            <a:avLst/>
          </a:prstGeom>
          <a:ln w="0">
            <a:noFill/>
          </a:ln>
        </p:spPr>
      </p:pic>
      <p:sp>
        <p:nvSpPr>
          <p:cNvPr id="979" name="Line 16"/>
          <p:cNvSpPr/>
          <p:nvPr/>
        </p:nvSpPr>
        <p:spPr>
          <a:xfrm flipV="1">
            <a:off x="1905120" y="4495680"/>
            <a:ext cx="0" cy="9144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Line 17"/>
          <p:cNvSpPr/>
          <p:nvPr/>
        </p:nvSpPr>
        <p:spPr>
          <a:xfrm>
            <a:off x="1905120" y="4495680"/>
            <a:ext cx="36576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8"/>
          <p:cNvSpPr/>
          <p:nvPr/>
        </p:nvSpPr>
        <p:spPr>
          <a:xfrm flipV="1">
            <a:off x="5562720" y="4495680"/>
            <a:ext cx="0" cy="9144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9"/>
          <p:cNvSpPr/>
          <p:nvPr/>
        </p:nvSpPr>
        <p:spPr>
          <a:xfrm>
            <a:off x="914400" y="5410080"/>
            <a:ext cx="99072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20"/>
          <p:cNvSpPr/>
          <p:nvPr/>
        </p:nvSpPr>
        <p:spPr>
          <a:xfrm>
            <a:off x="5562720" y="5410080"/>
            <a:ext cx="1371600" cy="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4" name="Picture 21" descr=""/>
          <p:cNvPicPr/>
          <p:nvPr/>
        </p:nvPicPr>
        <p:blipFill>
          <a:blip r:embed="rId4"/>
          <a:stretch/>
        </p:blipFill>
        <p:spPr>
          <a:xfrm>
            <a:off x="7391520" y="1676520"/>
            <a:ext cx="1752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inary Operation Usag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986" name="Picture 3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1185840" cy="1063800"/>
          </a:xfrm>
          <a:prstGeom prst="rect">
            <a:avLst/>
          </a:prstGeom>
          <a:ln w="0">
            <a:noFill/>
          </a:ln>
        </p:spPr>
      </p:pic>
      <p:sp>
        <p:nvSpPr>
          <p:cNvPr id="987" name="Text Box 4"/>
          <p:cNvSpPr/>
          <p:nvPr/>
        </p:nvSpPr>
        <p:spPr>
          <a:xfrm>
            <a:off x="1522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shold Im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AutoShape 5"/>
          <p:cNvSpPr/>
          <p:nvPr/>
        </p:nvSpPr>
        <p:spPr>
          <a:xfrm>
            <a:off x="1676520" y="23623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Picture 6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1143000" cy="1025640"/>
          </a:xfrm>
          <a:prstGeom prst="rect">
            <a:avLst/>
          </a:prstGeom>
          <a:ln w="0">
            <a:noFill/>
          </a:ln>
        </p:spPr>
      </p:pic>
      <p:sp>
        <p:nvSpPr>
          <p:cNvPr id="990" name="Text Box 7"/>
          <p:cNvSpPr/>
          <p:nvPr/>
        </p:nvSpPr>
        <p:spPr>
          <a:xfrm>
            <a:off x="3429000" y="1676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n Fil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8"/>
          <p:cNvSpPr/>
          <p:nvPr/>
        </p:nvSpPr>
        <p:spPr>
          <a:xfrm rot="5400000">
            <a:off x="3467160" y="346716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2" name="Picture 9" descr=""/>
          <p:cNvPicPr/>
          <p:nvPr/>
        </p:nvPicPr>
        <p:blipFill>
          <a:blip r:embed="rId3"/>
          <a:stretch/>
        </p:blipFill>
        <p:spPr>
          <a:xfrm>
            <a:off x="152280" y="4495680"/>
            <a:ext cx="5067360" cy="1320840"/>
          </a:xfrm>
          <a:prstGeom prst="rect">
            <a:avLst/>
          </a:prstGeom>
          <a:ln w="0">
            <a:noFill/>
          </a:ln>
        </p:spPr>
      </p:pic>
      <p:sp>
        <p:nvSpPr>
          <p:cNvPr id="993" name="Text Box 10"/>
          <p:cNvSpPr/>
          <p:nvPr/>
        </p:nvSpPr>
        <p:spPr>
          <a:xfrm>
            <a:off x="1371600" y="4191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ze Res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AutoShape 11"/>
          <p:cNvSpPr/>
          <p:nvPr/>
        </p:nvSpPr>
        <p:spPr>
          <a:xfrm>
            <a:off x="4648320" y="228600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 Box 12"/>
          <p:cNvSpPr/>
          <p:nvPr/>
        </p:nvSpPr>
        <p:spPr>
          <a:xfrm>
            <a:off x="670572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nary 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6" name="Picture 13" descr=""/>
          <p:cNvPicPr/>
          <p:nvPr/>
        </p:nvPicPr>
        <p:blipFill>
          <a:blip r:embed="rId4"/>
          <a:stretch/>
        </p:blipFill>
        <p:spPr>
          <a:xfrm>
            <a:off x="6781680" y="2057400"/>
            <a:ext cx="1143000" cy="1025640"/>
          </a:xfrm>
          <a:prstGeom prst="rect">
            <a:avLst/>
          </a:prstGeom>
          <a:ln w="0">
            <a:noFill/>
          </a:ln>
        </p:spPr>
      </p:pic>
      <p:sp>
        <p:nvSpPr>
          <p:cNvPr id="997" name="AutoShape 14"/>
          <p:cNvSpPr/>
          <p:nvPr/>
        </p:nvSpPr>
        <p:spPr>
          <a:xfrm rot="5400000">
            <a:off x="6933960" y="3200400"/>
            <a:ext cx="609840" cy="4572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Text Box 15"/>
          <p:cNvSpPr/>
          <p:nvPr/>
        </p:nvSpPr>
        <p:spPr>
          <a:xfrm>
            <a:off x="6400800" y="3657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9" name="Picture 16" descr=""/>
          <p:cNvPicPr/>
          <p:nvPr/>
        </p:nvPicPr>
        <p:blipFill>
          <a:blip r:embed="rId5"/>
          <a:stretch/>
        </p:blipFill>
        <p:spPr>
          <a:xfrm>
            <a:off x="6019920" y="3962520"/>
            <a:ext cx="2709720" cy="2431800"/>
          </a:xfrm>
          <a:prstGeom prst="rect">
            <a:avLst/>
          </a:prstGeom>
          <a:ln w="0">
            <a:noFill/>
          </a:ln>
        </p:spPr>
      </p:pic>
      <p:sp>
        <p:nvSpPr>
          <p:cNvPr id="1000" name="AutoShape 17"/>
          <p:cNvSpPr/>
          <p:nvPr/>
        </p:nvSpPr>
        <p:spPr>
          <a:xfrm rot="10800000">
            <a:off x="5410080" y="4876920"/>
            <a:ext cx="533520" cy="457200"/>
          </a:xfrm>
          <a:prstGeom prst="rightArrow">
            <a:avLst>
              <a:gd name="adj1" fmla="val 50000"/>
              <a:gd name="adj2" fmla="val 29173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“Simple Binary.tif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Image -&gt; Adjust -&gt;Thresh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range to Min=0, Max=141, Click 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Image -&gt; Dupl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Process -&gt; Binary -&gt; Dilate (repeat 2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Process -&gt; Image Calcu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lect “Difference” Method and click A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Operations – AND/OR/SUB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Picture 4" descr=""/>
          <p:cNvPicPr/>
          <p:nvPr/>
        </p:nvPicPr>
        <p:blipFill>
          <a:blip r:embed="rId8"/>
          <a:stretch/>
        </p:blipFill>
        <p:spPr>
          <a:xfrm>
            <a:off x="6248520" y="4648320"/>
            <a:ext cx="24476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ithmetic Opera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pixels in an image are calculated against a constant value (Process -&gt; Math -&gt; Subtra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xels from image A are calculated against image B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xels from images 1 to N in a stack are calculated against one ano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“Math_YFP” and “Math_DAPI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old DAPI Image + a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y Dapi  (Binary) Imag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ocess -&gt;math-&gt; Multip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this requi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 -&gt; Image Calculator, 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 = YFP Signal where Dapi Binary is Posit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phological Convolu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ach brightness value as a separate binary layer. (eg intensity 0,1 – then intensity 1,2 from 0 to image maxim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Filters on whole image that used to be restricted to bina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more utility without requiring moving image into binary space (saves tim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“Morphology Example.ti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Process -&gt; Morphology -&gt; Grey Morph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the following abilities which operate on an intensity im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l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cessing Workflow Option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13" name="Rectangle 3"/>
          <p:cNvSpPr/>
          <p:nvPr/>
        </p:nvSpPr>
        <p:spPr>
          <a:xfrm>
            <a:off x="304920" y="2405880"/>
            <a:ext cx="1752480" cy="368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4"/>
          <p:cNvSpPr/>
          <p:nvPr/>
        </p:nvSpPr>
        <p:spPr>
          <a:xfrm>
            <a:off x="2133720" y="251460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5"/>
          <p:cNvSpPr/>
          <p:nvPr/>
        </p:nvSpPr>
        <p:spPr>
          <a:xfrm>
            <a:off x="3429000" y="2169720"/>
            <a:ext cx="1752480" cy="9169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 used to identify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6"/>
          <p:cNvSpPr/>
          <p:nvPr/>
        </p:nvSpPr>
        <p:spPr>
          <a:xfrm>
            <a:off x="5257800" y="251460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7"/>
          <p:cNvSpPr/>
          <p:nvPr/>
        </p:nvSpPr>
        <p:spPr>
          <a:xfrm>
            <a:off x="6477120" y="1942920"/>
            <a:ext cx="1752480" cy="14655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s taken and processing changes accep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AutoShape 8"/>
          <p:cNvSpPr/>
          <p:nvPr/>
        </p:nvSpPr>
        <p:spPr>
          <a:xfrm rot="5400000">
            <a:off x="3695400" y="369576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9"/>
          <p:cNvSpPr/>
          <p:nvPr/>
        </p:nvSpPr>
        <p:spPr>
          <a:xfrm>
            <a:off x="3124080" y="4561560"/>
            <a:ext cx="2362320" cy="14655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iginal data is re-app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ing only used for seg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5562720" y="51814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Rectangle 11"/>
          <p:cNvSpPr/>
          <p:nvPr/>
        </p:nvSpPr>
        <p:spPr>
          <a:xfrm>
            <a:off x="6477120" y="4746240"/>
            <a:ext cx="1752480" cy="11912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surements taken only on original data a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WordArt 12"/>
          <p:cNvSpPr txBox="1"/>
          <p:nvPr/>
        </p:nvSpPr>
        <p:spPr>
          <a:xfrm>
            <a:off x="6781680" y="1371600"/>
            <a:ext cx="1171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ast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3" name="WordArt 13"/>
          <p:cNvSpPr txBox="1"/>
          <p:nvPr/>
        </p:nvSpPr>
        <p:spPr>
          <a:xfrm>
            <a:off x="6019920" y="6172200"/>
            <a:ext cx="2361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ore Accurat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025" name="binary example.wmv" descr=""/>
          <p:cNvPicPr/>
          <p:nvPr/>
        </p:nvPicPr>
        <p:blipFill>
          <a:blip r:embed="rId1"/>
          <a:stretch/>
        </p:blipFill>
        <p:spPr>
          <a:xfrm>
            <a:off x="1549440" y="1600200"/>
            <a:ext cx="604512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20247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1025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1025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1" dur="1" fill="hold"/>
                                        <p:tgtEl>
                                          <p:spTgt spid="10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ample Imaging Workflo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27" name="Rounded Rectangle 3"/>
          <p:cNvSpPr/>
          <p:nvPr/>
        </p:nvSpPr>
        <p:spPr>
          <a:xfrm>
            <a:off x="380880" y="1523880"/>
            <a:ext cx="129564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qu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ounded Rectangle 4"/>
          <p:cNvSpPr/>
          <p:nvPr/>
        </p:nvSpPr>
        <p:spPr>
          <a:xfrm>
            <a:off x="213372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Rounded Rectangle 5"/>
          <p:cNvSpPr/>
          <p:nvPr/>
        </p:nvSpPr>
        <p:spPr>
          <a:xfrm>
            <a:off x="2286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up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ounded Rectangle 9"/>
          <p:cNvSpPr/>
          <p:nvPr/>
        </p:nvSpPr>
        <p:spPr>
          <a:xfrm>
            <a:off x="2286000" y="251460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1" name="Straight Arrow Connector 24"/>
          <p:cNvCxnSpPr>
            <a:stCxn id="1027" idx="3"/>
            <a:endCxn id="1028" idx="1"/>
          </p:cNvCxnSpPr>
          <p:nvPr/>
        </p:nvCxnSpPr>
        <p:spPr>
          <a:xfrm>
            <a:off x="1676520" y="1714680"/>
            <a:ext cx="457920" cy="21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1032" name="Rounded Rectangle 4"/>
          <p:cNvSpPr/>
          <p:nvPr/>
        </p:nvSpPr>
        <p:spPr>
          <a:xfrm>
            <a:off x="434340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ounded Rectangle 5"/>
          <p:cNvSpPr/>
          <p:nvPr/>
        </p:nvSpPr>
        <p:spPr>
          <a:xfrm>
            <a:off x="4572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er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ounded Rectangle 5"/>
          <p:cNvSpPr/>
          <p:nvPr/>
        </p:nvSpPr>
        <p:spPr>
          <a:xfrm>
            <a:off x="4572000" y="243828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rph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ounded Rectangle 5"/>
          <p:cNvSpPr/>
          <p:nvPr/>
        </p:nvSpPr>
        <p:spPr>
          <a:xfrm>
            <a:off x="4572000" y="28195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rith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ounded Rectangle 5"/>
          <p:cNvSpPr/>
          <p:nvPr/>
        </p:nvSpPr>
        <p:spPr>
          <a:xfrm>
            <a:off x="4572000" y="3200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egmentation (Thresho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7" name="Straight Arrow Connector 24"/>
          <p:cNvCxnSpPr>
            <a:stCxn id="1027" idx="3"/>
            <a:endCxn id="1028" idx="1"/>
          </p:cNvCxnSpPr>
          <p:nvPr/>
        </p:nvCxnSpPr>
        <p:spPr>
          <a:xfrm>
            <a:off x="3448080" y="1714320"/>
            <a:ext cx="876960" cy="108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1038" name="Rounded Rectangle 4"/>
          <p:cNvSpPr/>
          <p:nvPr/>
        </p:nvSpPr>
        <p:spPr>
          <a:xfrm>
            <a:off x="670572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naly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ounded Rectangle 5"/>
          <p:cNvSpPr/>
          <p:nvPr/>
        </p:nvSpPr>
        <p:spPr>
          <a:xfrm>
            <a:off x="693432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rea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ounded Rectangle 5"/>
          <p:cNvSpPr/>
          <p:nvPr/>
        </p:nvSpPr>
        <p:spPr>
          <a:xfrm>
            <a:off x="6934320" y="2438280"/>
            <a:ext cx="198108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Object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ounded Rectangle 5"/>
          <p:cNvSpPr/>
          <p:nvPr/>
        </p:nvSpPr>
        <p:spPr>
          <a:xfrm>
            <a:off x="6934320" y="28195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ND Analy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ounded Rectangle 5"/>
          <p:cNvSpPr/>
          <p:nvPr/>
        </p:nvSpPr>
        <p:spPr>
          <a:xfrm>
            <a:off x="6934320" y="3200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dvanced Analy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xample Imaging Workflo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27" name="Rounded Rectangle 3"/>
          <p:cNvSpPr/>
          <p:nvPr/>
        </p:nvSpPr>
        <p:spPr>
          <a:xfrm>
            <a:off x="380880" y="1523880"/>
            <a:ext cx="129564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qu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ounded Rectangle 4"/>
          <p:cNvSpPr/>
          <p:nvPr/>
        </p:nvSpPr>
        <p:spPr>
          <a:xfrm>
            <a:off x="213372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Rounded Rectangle 5"/>
          <p:cNvSpPr/>
          <p:nvPr/>
        </p:nvSpPr>
        <p:spPr>
          <a:xfrm>
            <a:off x="2286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up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ounded Rectangle 9"/>
          <p:cNvSpPr/>
          <p:nvPr/>
        </p:nvSpPr>
        <p:spPr>
          <a:xfrm>
            <a:off x="2286000" y="2514600"/>
            <a:ext cx="129528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31" name="Straight Arrow Connector 24"/>
          <p:cNvCxnSpPr>
            <a:stCxn id="927" idx="3"/>
            <a:endCxn id="928" idx="1"/>
          </p:cNvCxnSpPr>
          <p:nvPr/>
        </p:nvCxnSpPr>
        <p:spPr>
          <a:xfrm>
            <a:off x="1676520" y="1714680"/>
            <a:ext cx="457920" cy="2160"/>
          </a:xfrm>
          <a:prstGeom prst="straightConnector1">
            <a:avLst/>
          </a:prstGeom>
          <a:ln w="9360">
            <a:solidFill>
              <a:srgbClr val="6060fd"/>
            </a:solidFill>
            <a:miter/>
            <a:tailEnd len="med" type="arrow" w="med"/>
          </a:ln>
        </p:spPr>
      </p:cxnSp>
      <p:sp>
        <p:nvSpPr>
          <p:cNvPr id="932" name="Rounded Rectangle 4"/>
          <p:cNvSpPr/>
          <p:nvPr/>
        </p:nvSpPr>
        <p:spPr>
          <a:xfrm>
            <a:off x="4343400" y="1523880"/>
            <a:ext cx="1295280" cy="38124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Rounded Rectangle 5"/>
          <p:cNvSpPr/>
          <p:nvPr/>
        </p:nvSpPr>
        <p:spPr>
          <a:xfrm>
            <a:off x="4572000" y="205740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Ker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ounded Rectangle 5"/>
          <p:cNvSpPr/>
          <p:nvPr/>
        </p:nvSpPr>
        <p:spPr>
          <a:xfrm>
            <a:off x="4572000" y="2438280"/>
            <a:ext cx="1828800" cy="30492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Morphom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Rounded Rectangle 5"/>
          <p:cNvSpPr/>
          <p:nvPr/>
        </p:nvSpPr>
        <p:spPr>
          <a:xfrm>
            <a:off x="4572000" y="2819520"/>
            <a:ext cx="1828800" cy="3045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Arith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Rounded Rectangle 5"/>
          <p:cNvSpPr/>
          <p:nvPr/>
        </p:nvSpPr>
        <p:spPr>
          <a:xfrm>
            <a:off x="4572000" y="320040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Segmentation (Thresho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Rectangle 13"/>
          <p:cNvSpPr/>
          <p:nvPr/>
        </p:nvSpPr>
        <p:spPr>
          <a:xfrm>
            <a:off x="152280" y="1219320"/>
            <a:ext cx="4038840" cy="2971800"/>
          </a:xfrm>
          <a:prstGeom prst="rect">
            <a:avLst/>
          </a:prstGeom>
          <a:noFill/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04920" y="4419720"/>
            <a:ext cx="419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505"/>
                </a:solidFill>
                <a:latin typeface="Arial"/>
              </a:rPr>
              <a:t>Covered in Quantitative Imaging Fundamen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Line 15"/>
          <p:cNvSpPr/>
          <p:nvPr/>
        </p:nvSpPr>
        <p:spPr>
          <a:xfrm flipV="1">
            <a:off x="1295280" y="3124080"/>
            <a:ext cx="457200" cy="1371600"/>
          </a:xfrm>
          <a:prstGeom prst="line">
            <a:avLst/>
          </a:prstGeom>
          <a:ln w="41400">
            <a:solidFill>
              <a:srgbClr val="ff0505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rea Meas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l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“Mch_488.ti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nalyze -&gt; Mea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measurements using CTRL+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Process -&gt; Analyze -&gt; Tools -&gt; ROI Manag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region, click AD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 a few times, then click Measu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*Note Click+Drag Still 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re Area Meas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File -&gt; Open Samples -&gt; MRI Stac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a new re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or open ROI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 Old Measurement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ew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“More” – “Multi-Measure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 Meas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a “Morphometric Object”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connected pix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xels are thresholded as sig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phometry measurements (used to classify cells/objects etc) can be performed on groups, or obj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5257800" y="4267080"/>
            <a:ext cx="2019240" cy="1990800"/>
          </a:xfrm>
          <a:prstGeom prst="rect">
            <a:avLst/>
          </a:prstGeom>
          <a:ln w="0">
            <a:noFill/>
          </a:ln>
        </p:spPr>
      </p:pic>
      <p:sp>
        <p:nvSpPr>
          <p:cNvPr id="1052" name="Line 5"/>
          <p:cNvSpPr/>
          <p:nvPr/>
        </p:nvSpPr>
        <p:spPr>
          <a:xfrm>
            <a:off x="4343400" y="5105520"/>
            <a:ext cx="1828800" cy="15228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6"/>
          <p:cNvSpPr/>
          <p:nvPr/>
        </p:nvSpPr>
        <p:spPr>
          <a:xfrm>
            <a:off x="3124080" y="48006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dentified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3676680" cy="3624120"/>
          </a:xfrm>
          <a:prstGeom prst="rect">
            <a:avLst/>
          </a:prstGeom>
          <a:ln w="0">
            <a:noFill/>
          </a:ln>
        </p:spPr>
      </p:pic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bject Measuremen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56" name="Line 4"/>
          <p:cNvSpPr/>
          <p:nvPr/>
        </p:nvSpPr>
        <p:spPr>
          <a:xfrm>
            <a:off x="3886200" y="3276720"/>
            <a:ext cx="1600200" cy="7617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Line 5"/>
          <p:cNvSpPr/>
          <p:nvPr/>
        </p:nvSpPr>
        <p:spPr>
          <a:xfrm flipV="1">
            <a:off x="3505320" y="2743200"/>
            <a:ext cx="152388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Text Box 6"/>
          <p:cNvSpPr/>
          <p:nvPr/>
        </p:nvSpPr>
        <p:spPr>
          <a:xfrm>
            <a:off x="5791320" y="41911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Text Box 7"/>
          <p:cNvSpPr/>
          <p:nvPr/>
        </p:nvSpPr>
        <p:spPr>
          <a:xfrm>
            <a:off x="5029200" y="2209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Freeform 8"/>
          <p:cNvSpPr/>
          <p:nvPr/>
        </p:nvSpPr>
        <p:spPr>
          <a:xfrm>
            <a:off x="3351240" y="2600280"/>
            <a:ext cx="2484360" cy="2560680"/>
          </a:xfrm>
          <a:custGeom>
            <a:avLst/>
            <a:gdLst>
              <a:gd name="textAreaLeft" fmla="*/ 0 w 2484360"/>
              <a:gd name="textAreaRight" fmla="*/ 2484720 w 2484360"/>
              <a:gd name="textAreaTop" fmla="*/ 0 h 2560680"/>
              <a:gd name="textAreaBottom" fmla="*/ 2561040 h 2560680"/>
            </a:gdLst>
            <a:ahLst/>
            <a:rect l="textAreaLeft" t="textAreaTop" r="textAreaRight" b="textAreaBottom"/>
            <a:pathLst>
              <a:path w="1565" h="1613">
                <a:moveTo>
                  <a:pt x="1005" y="53"/>
                </a:moveTo>
                <a:cubicBezTo>
                  <a:pt x="971" y="76"/>
                  <a:pt x="987" y="73"/>
                  <a:pt x="931" y="60"/>
                </a:cubicBezTo>
                <a:cubicBezTo>
                  <a:pt x="854" y="42"/>
                  <a:pt x="781" y="15"/>
                  <a:pt x="703" y="1"/>
                </a:cubicBezTo>
                <a:cubicBezTo>
                  <a:pt x="654" y="4"/>
                  <a:pt x="604" y="0"/>
                  <a:pt x="555" y="9"/>
                </a:cubicBezTo>
                <a:cubicBezTo>
                  <a:pt x="547" y="10"/>
                  <a:pt x="515" y="62"/>
                  <a:pt x="496" y="75"/>
                </a:cubicBezTo>
                <a:cubicBezTo>
                  <a:pt x="478" y="102"/>
                  <a:pt x="479" y="117"/>
                  <a:pt x="451" y="134"/>
                </a:cubicBezTo>
                <a:cubicBezTo>
                  <a:pt x="442" y="164"/>
                  <a:pt x="431" y="193"/>
                  <a:pt x="422" y="223"/>
                </a:cubicBezTo>
                <a:cubicBezTo>
                  <a:pt x="420" y="260"/>
                  <a:pt x="419" y="297"/>
                  <a:pt x="415" y="334"/>
                </a:cubicBezTo>
                <a:cubicBezTo>
                  <a:pt x="403" y="440"/>
                  <a:pt x="280" y="491"/>
                  <a:pt x="200" y="540"/>
                </a:cubicBezTo>
                <a:cubicBezTo>
                  <a:pt x="185" y="565"/>
                  <a:pt x="141" y="607"/>
                  <a:pt x="141" y="607"/>
                </a:cubicBezTo>
                <a:cubicBezTo>
                  <a:pt x="131" y="637"/>
                  <a:pt x="119" y="648"/>
                  <a:pt x="90" y="659"/>
                </a:cubicBezTo>
                <a:cubicBezTo>
                  <a:pt x="75" y="701"/>
                  <a:pt x="48" y="737"/>
                  <a:pt x="16" y="769"/>
                </a:cubicBezTo>
                <a:cubicBezTo>
                  <a:pt x="22" y="862"/>
                  <a:pt x="0" y="1002"/>
                  <a:pt x="31" y="1087"/>
                </a:cubicBezTo>
                <a:cubicBezTo>
                  <a:pt x="37" y="1324"/>
                  <a:pt x="21" y="1315"/>
                  <a:pt x="67" y="1464"/>
                </a:cubicBezTo>
                <a:cubicBezTo>
                  <a:pt x="81" y="1509"/>
                  <a:pt x="120" y="1527"/>
                  <a:pt x="156" y="1552"/>
                </a:cubicBezTo>
                <a:cubicBezTo>
                  <a:pt x="175" y="1565"/>
                  <a:pt x="223" y="1574"/>
                  <a:pt x="223" y="1574"/>
                </a:cubicBezTo>
                <a:cubicBezTo>
                  <a:pt x="281" y="1613"/>
                  <a:pt x="364" y="1607"/>
                  <a:pt x="429" y="1611"/>
                </a:cubicBezTo>
                <a:cubicBezTo>
                  <a:pt x="508" y="1606"/>
                  <a:pt x="609" y="1605"/>
                  <a:pt x="680" y="1560"/>
                </a:cubicBezTo>
                <a:cubicBezTo>
                  <a:pt x="698" y="1532"/>
                  <a:pt x="729" y="1518"/>
                  <a:pt x="762" y="1508"/>
                </a:cubicBezTo>
                <a:cubicBezTo>
                  <a:pt x="786" y="1491"/>
                  <a:pt x="809" y="1491"/>
                  <a:pt x="835" y="1478"/>
                </a:cubicBezTo>
                <a:cubicBezTo>
                  <a:pt x="876" y="1458"/>
                  <a:pt x="921" y="1422"/>
                  <a:pt x="968" y="1419"/>
                </a:cubicBezTo>
                <a:cubicBezTo>
                  <a:pt x="1027" y="1415"/>
                  <a:pt x="1087" y="1414"/>
                  <a:pt x="1146" y="1412"/>
                </a:cubicBezTo>
                <a:cubicBezTo>
                  <a:pt x="1196" y="1362"/>
                  <a:pt x="1179" y="1385"/>
                  <a:pt x="1205" y="1345"/>
                </a:cubicBezTo>
                <a:cubicBezTo>
                  <a:pt x="1223" y="1288"/>
                  <a:pt x="1245" y="1233"/>
                  <a:pt x="1279" y="1183"/>
                </a:cubicBezTo>
                <a:cubicBezTo>
                  <a:pt x="1291" y="1145"/>
                  <a:pt x="1299" y="1104"/>
                  <a:pt x="1308" y="1065"/>
                </a:cubicBezTo>
                <a:cubicBezTo>
                  <a:pt x="1313" y="1010"/>
                  <a:pt x="1312" y="924"/>
                  <a:pt x="1375" y="902"/>
                </a:cubicBezTo>
                <a:cubicBezTo>
                  <a:pt x="1408" y="852"/>
                  <a:pt x="1387" y="863"/>
                  <a:pt x="1426" y="851"/>
                </a:cubicBezTo>
                <a:cubicBezTo>
                  <a:pt x="1448" y="817"/>
                  <a:pt x="1460" y="830"/>
                  <a:pt x="1485" y="799"/>
                </a:cubicBezTo>
                <a:cubicBezTo>
                  <a:pt x="1496" y="785"/>
                  <a:pt x="1515" y="755"/>
                  <a:pt x="1515" y="755"/>
                </a:cubicBezTo>
                <a:cubicBezTo>
                  <a:pt x="1527" y="715"/>
                  <a:pt x="1547" y="677"/>
                  <a:pt x="1559" y="636"/>
                </a:cubicBezTo>
                <a:cubicBezTo>
                  <a:pt x="1553" y="575"/>
                  <a:pt x="1565" y="502"/>
                  <a:pt x="1507" y="467"/>
                </a:cubicBezTo>
                <a:cubicBezTo>
                  <a:pt x="1496" y="430"/>
                  <a:pt x="1456" y="380"/>
                  <a:pt x="1426" y="356"/>
                </a:cubicBezTo>
                <a:cubicBezTo>
                  <a:pt x="1412" y="345"/>
                  <a:pt x="1382" y="326"/>
                  <a:pt x="1382" y="326"/>
                </a:cubicBezTo>
                <a:cubicBezTo>
                  <a:pt x="1364" y="291"/>
                  <a:pt x="1358" y="278"/>
                  <a:pt x="1323" y="260"/>
                </a:cubicBezTo>
                <a:cubicBezTo>
                  <a:pt x="1283" y="201"/>
                  <a:pt x="1335" y="272"/>
                  <a:pt x="1286" y="223"/>
                </a:cubicBezTo>
                <a:cubicBezTo>
                  <a:pt x="1280" y="217"/>
                  <a:pt x="1278" y="207"/>
                  <a:pt x="1271" y="201"/>
                </a:cubicBezTo>
                <a:cubicBezTo>
                  <a:pt x="1258" y="189"/>
                  <a:pt x="1227" y="171"/>
                  <a:pt x="1227" y="171"/>
                </a:cubicBezTo>
                <a:cubicBezTo>
                  <a:pt x="1216" y="155"/>
                  <a:pt x="1211" y="134"/>
                  <a:pt x="1197" y="120"/>
                </a:cubicBezTo>
                <a:cubicBezTo>
                  <a:pt x="1191" y="114"/>
                  <a:pt x="1182" y="116"/>
                  <a:pt x="1175" y="112"/>
                </a:cubicBezTo>
                <a:cubicBezTo>
                  <a:pt x="1149" y="98"/>
                  <a:pt x="1085" y="54"/>
                  <a:pt x="1057" y="53"/>
                </a:cubicBezTo>
                <a:cubicBezTo>
                  <a:pt x="1003" y="51"/>
                  <a:pt x="949" y="53"/>
                  <a:pt x="895" y="53"/>
                </a:cubicBezTo>
              </a:path>
            </a:pathLst>
          </a:custGeom>
          <a:noFill/>
          <a:ln w="414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Text Box 9"/>
          <p:cNvSpPr/>
          <p:nvPr/>
        </p:nvSpPr>
        <p:spPr>
          <a:xfrm>
            <a:off x="266688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i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10"/>
          <p:cNvSpPr/>
          <p:nvPr/>
        </p:nvSpPr>
        <p:spPr>
          <a:xfrm>
            <a:off x="3581280" y="2666880"/>
            <a:ext cx="5335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Freeform 36"/>
          <p:cNvSpPr/>
          <p:nvPr/>
        </p:nvSpPr>
        <p:spPr>
          <a:xfrm>
            <a:off x="1981080" y="4191120"/>
            <a:ext cx="3353040" cy="2066760"/>
          </a:xfrm>
          <a:custGeom>
            <a:avLst/>
            <a:gdLst/>
            <a:ahLst/>
            <a:rect l="l" t="t" r="r" b="b"/>
            <a:pathLst>
              <a:path w="3352800" h="2067339">
                <a:moveTo>
                  <a:pt x="1497496" y="79513"/>
                </a:moveTo>
                <a:lnTo>
                  <a:pt x="1497496" y="79513"/>
                </a:lnTo>
                <a:lnTo>
                  <a:pt x="1378227" y="92765"/>
                </a:lnTo>
                <a:cubicBezTo>
                  <a:pt x="1347232" y="96639"/>
                  <a:pt x="1316589" y="103424"/>
                  <a:pt x="1285461" y="106018"/>
                </a:cubicBezTo>
                <a:cubicBezTo>
                  <a:pt x="1210495" y="112265"/>
                  <a:pt x="1135270" y="114853"/>
                  <a:pt x="1060174" y="119270"/>
                </a:cubicBezTo>
                <a:lnTo>
                  <a:pt x="980661" y="132522"/>
                </a:lnTo>
                <a:cubicBezTo>
                  <a:pt x="949789" y="137272"/>
                  <a:pt x="918332" y="138750"/>
                  <a:pt x="887896" y="145774"/>
                </a:cubicBezTo>
                <a:cubicBezTo>
                  <a:pt x="651398" y="200350"/>
                  <a:pt x="978424" y="147985"/>
                  <a:pt x="715618" y="185531"/>
                </a:cubicBezTo>
                <a:cubicBezTo>
                  <a:pt x="671444" y="203200"/>
                  <a:pt x="628231" y="223494"/>
                  <a:pt x="583096" y="238539"/>
                </a:cubicBezTo>
                <a:cubicBezTo>
                  <a:pt x="556592" y="247374"/>
                  <a:pt x="526829" y="249547"/>
                  <a:pt x="503583" y="265044"/>
                </a:cubicBezTo>
                <a:cubicBezTo>
                  <a:pt x="452204" y="299297"/>
                  <a:pt x="478937" y="286512"/>
                  <a:pt x="424070" y="304800"/>
                </a:cubicBezTo>
                <a:cubicBezTo>
                  <a:pt x="406400" y="318052"/>
                  <a:pt x="389439" y="332305"/>
                  <a:pt x="371061" y="344557"/>
                </a:cubicBezTo>
                <a:cubicBezTo>
                  <a:pt x="349629" y="358845"/>
                  <a:pt x="325406" y="368858"/>
                  <a:pt x="304800" y="384313"/>
                </a:cubicBezTo>
                <a:cubicBezTo>
                  <a:pt x="289807" y="395558"/>
                  <a:pt x="280937" y="414137"/>
                  <a:pt x="265044" y="424070"/>
                </a:cubicBezTo>
                <a:cubicBezTo>
                  <a:pt x="244872" y="436678"/>
                  <a:pt x="219578" y="439021"/>
                  <a:pt x="198783" y="450574"/>
                </a:cubicBezTo>
                <a:cubicBezTo>
                  <a:pt x="164708" y="469505"/>
                  <a:pt x="117355" y="515237"/>
                  <a:pt x="92766" y="543339"/>
                </a:cubicBezTo>
                <a:cubicBezTo>
                  <a:pt x="55089" y="586399"/>
                  <a:pt x="43599" y="607053"/>
                  <a:pt x="26505" y="662609"/>
                </a:cubicBezTo>
                <a:cubicBezTo>
                  <a:pt x="15792" y="697425"/>
                  <a:pt x="0" y="768626"/>
                  <a:pt x="0" y="768626"/>
                </a:cubicBezTo>
                <a:cubicBezTo>
                  <a:pt x="4418" y="799548"/>
                  <a:pt x="5034" y="831256"/>
                  <a:pt x="13253" y="861391"/>
                </a:cubicBezTo>
                <a:cubicBezTo>
                  <a:pt x="18451" y="880450"/>
                  <a:pt x="31975" y="896242"/>
                  <a:pt x="39757" y="914400"/>
                </a:cubicBezTo>
                <a:cubicBezTo>
                  <a:pt x="45260" y="927240"/>
                  <a:pt x="46225" y="941946"/>
                  <a:pt x="53009" y="954157"/>
                </a:cubicBezTo>
                <a:cubicBezTo>
                  <a:pt x="58420" y="963897"/>
                  <a:pt x="128403" y="1069307"/>
                  <a:pt x="145774" y="1086678"/>
                </a:cubicBezTo>
                <a:cubicBezTo>
                  <a:pt x="157036" y="1097940"/>
                  <a:pt x="173295" y="1102987"/>
                  <a:pt x="185531" y="1113183"/>
                </a:cubicBezTo>
                <a:cubicBezTo>
                  <a:pt x="251709" y="1168331"/>
                  <a:pt x="195176" y="1142902"/>
                  <a:pt x="265044" y="1166191"/>
                </a:cubicBezTo>
                <a:cubicBezTo>
                  <a:pt x="273879" y="1175026"/>
                  <a:pt x="281152" y="1185765"/>
                  <a:pt x="291548" y="1192696"/>
                </a:cubicBezTo>
                <a:cubicBezTo>
                  <a:pt x="314302" y="1207866"/>
                  <a:pt x="356043" y="1225385"/>
                  <a:pt x="384313" y="1232452"/>
                </a:cubicBezTo>
                <a:cubicBezTo>
                  <a:pt x="406165" y="1237915"/>
                  <a:pt x="428413" y="1241675"/>
                  <a:pt x="450574" y="1245704"/>
                </a:cubicBezTo>
                <a:cubicBezTo>
                  <a:pt x="571946" y="1267772"/>
                  <a:pt x="547817" y="1260223"/>
                  <a:pt x="715618" y="1272209"/>
                </a:cubicBezTo>
                <a:cubicBezTo>
                  <a:pt x="740820" y="1277249"/>
                  <a:pt x="794469" y="1285130"/>
                  <a:pt x="821635" y="1298713"/>
                </a:cubicBezTo>
                <a:cubicBezTo>
                  <a:pt x="862574" y="1319183"/>
                  <a:pt x="888650" y="1353849"/>
                  <a:pt x="927653" y="1378226"/>
                </a:cubicBezTo>
                <a:cubicBezTo>
                  <a:pt x="939499" y="1385629"/>
                  <a:pt x="954157" y="1387061"/>
                  <a:pt x="967409" y="1391478"/>
                </a:cubicBezTo>
                <a:cubicBezTo>
                  <a:pt x="985079" y="1404730"/>
                  <a:pt x="1003648" y="1416861"/>
                  <a:pt x="1020418" y="1431235"/>
                </a:cubicBezTo>
                <a:cubicBezTo>
                  <a:pt x="1034647" y="1443432"/>
                  <a:pt x="1045777" y="1458993"/>
                  <a:pt x="1060174" y="1470991"/>
                </a:cubicBezTo>
                <a:cubicBezTo>
                  <a:pt x="1072410" y="1481187"/>
                  <a:pt x="1087838" y="1487131"/>
                  <a:pt x="1099931" y="1497496"/>
                </a:cubicBezTo>
                <a:cubicBezTo>
                  <a:pt x="1179968" y="1566099"/>
                  <a:pt x="1119647" y="1539405"/>
                  <a:pt x="1192696" y="1563757"/>
                </a:cubicBezTo>
                <a:cubicBezTo>
                  <a:pt x="1296066" y="1667125"/>
                  <a:pt x="1163361" y="1542803"/>
                  <a:pt x="1285461" y="1630018"/>
                </a:cubicBezTo>
                <a:cubicBezTo>
                  <a:pt x="1300711" y="1640911"/>
                  <a:pt x="1309967" y="1658881"/>
                  <a:pt x="1325218" y="1669774"/>
                </a:cubicBezTo>
                <a:cubicBezTo>
                  <a:pt x="1341294" y="1681256"/>
                  <a:pt x="1361790" y="1685320"/>
                  <a:pt x="1378227" y="1696278"/>
                </a:cubicBezTo>
                <a:cubicBezTo>
                  <a:pt x="1414982" y="1720781"/>
                  <a:pt x="1444734" y="1756036"/>
                  <a:pt x="1484244" y="1775791"/>
                </a:cubicBezTo>
                <a:cubicBezTo>
                  <a:pt x="1588745" y="1828042"/>
                  <a:pt x="1535645" y="1806177"/>
                  <a:pt x="1643270" y="1842052"/>
                </a:cubicBezTo>
                <a:cubicBezTo>
                  <a:pt x="1656522" y="1855304"/>
                  <a:pt x="1666644" y="1872707"/>
                  <a:pt x="1683027" y="1881809"/>
                </a:cubicBezTo>
                <a:cubicBezTo>
                  <a:pt x="1707449" y="1895377"/>
                  <a:pt x="1735586" y="1900962"/>
                  <a:pt x="1762540" y="1908313"/>
                </a:cubicBezTo>
                <a:cubicBezTo>
                  <a:pt x="1784270" y="1914239"/>
                  <a:pt x="1806812" y="1916679"/>
                  <a:pt x="1828800" y="1921565"/>
                </a:cubicBezTo>
                <a:cubicBezTo>
                  <a:pt x="1846580" y="1925516"/>
                  <a:pt x="1863949" y="1931246"/>
                  <a:pt x="1881809" y="1934818"/>
                </a:cubicBezTo>
                <a:cubicBezTo>
                  <a:pt x="1908157" y="1940088"/>
                  <a:pt x="1935254" y="1941553"/>
                  <a:pt x="1961322" y="1948070"/>
                </a:cubicBezTo>
                <a:cubicBezTo>
                  <a:pt x="1988426" y="1954846"/>
                  <a:pt x="2013348" y="1969576"/>
                  <a:pt x="2040835" y="1974574"/>
                </a:cubicBezTo>
                <a:cubicBezTo>
                  <a:pt x="2110914" y="1987316"/>
                  <a:pt x="2182358" y="1991004"/>
                  <a:pt x="2252870" y="2001078"/>
                </a:cubicBezTo>
                <a:lnTo>
                  <a:pt x="2345635" y="2014331"/>
                </a:lnTo>
                <a:lnTo>
                  <a:pt x="2451653" y="2027583"/>
                </a:lnTo>
                <a:lnTo>
                  <a:pt x="2637183" y="2054087"/>
                </a:lnTo>
                <a:lnTo>
                  <a:pt x="2729948" y="2067339"/>
                </a:lnTo>
                <a:cubicBezTo>
                  <a:pt x="2827131" y="2058504"/>
                  <a:pt x="2925808" y="2059973"/>
                  <a:pt x="3021496" y="2040835"/>
                </a:cubicBezTo>
                <a:cubicBezTo>
                  <a:pt x="3039874" y="2037159"/>
                  <a:pt x="3045659" y="2011474"/>
                  <a:pt x="3061253" y="2001078"/>
                </a:cubicBezTo>
                <a:cubicBezTo>
                  <a:pt x="3072876" y="1993329"/>
                  <a:pt x="3087757" y="1992243"/>
                  <a:pt x="3101009" y="1987826"/>
                </a:cubicBezTo>
                <a:cubicBezTo>
                  <a:pt x="3114261" y="1970157"/>
                  <a:pt x="3125148" y="1950436"/>
                  <a:pt x="3140766" y="1934818"/>
                </a:cubicBezTo>
                <a:cubicBezTo>
                  <a:pt x="3152028" y="1923556"/>
                  <a:pt x="3170573" y="1920750"/>
                  <a:pt x="3180522" y="1908313"/>
                </a:cubicBezTo>
                <a:cubicBezTo>
                  <a:pt x="3189248" y="1897405"/>
                  <a:pt x="3185048" y="1879465"/>
                  <a:pt x="3193774" y="1868557"/>
                </a:cubicBezTo>
                <a:cubicBezTo>
                  <a:pt x="3203724" y="1856120"/>
                  <a:pt x="3222876" y="1853891"/>
                  <a:pt x="3233531" y="1842052"/>
                </a:cubicBezTo>
                <a:cubicBezTo>
                  <a:pt x="3288059" y="1781466"/>
                  <a:pt x="3317780" y="1742336"/>
                  <a:pt x="3339548" y="1669774"/>
                </a:cubicBezTo>
                <a:cubicBezTo>
                  <a:pt x="3346020" y="1648200"/>
                  <a:pt x="3348383" y="1625600"/>
                  <a:pt x="3352800" y="1603513"/>
                </a:cubicBezTo>
                <a:cubicBezTo>
                  <a:pt x="3348383" y="1537252"/>
                  <a:pt x="3346881" y="1470733"/>
                  <a:pt x="3339548" y="1404731"/>
                </a:cubicBezTo>
                <a:cubicBezTo>
                  <a:pt x="3338005" y="1390847"/>
                  <a:pt x="3332150" y="1377657"/>
                  <a:pt x="3326296" y="1364974"/>
                </a:cubicBezTo>
                <a:cubicBezTo>
                  <a:pt x="3272048" y="1247436"/>
                  <a:pt x="3267005" y="1219475"/>
                  <a:pt x="3167270" y="1139687"/>
                </a:cubicBezTo>
                <a:cubicBezTo>
                  <a:pt x="3145183" y="1122017"/>
                  <a:pt x="3125735" y="1100414"/>
                  <a:pt x="3101009" y="1086678"/>
                </a:cubicBezTo>
                <a:cubicBezTo>
                  <a:pt x="3085088" y="1077833"/>
                  <a:pt x="3065670" y="1077843"/>
                  <a:pt x="3048000" y="1073426"/>
                </a:cubicBezTo>
                <a:cubicBezTo>
                  <a:pt x="2955214" y="980638"/>
                  <a:pt x="3015672" y="1019644"/>
                  <a:pt x="2888974" y="980661"/>
                </a:cubicBezTo>
                <a:cubicBezTo>
                  <a:pt x="2862271" y="972445"/>
                  <a:pt x="2835965" y="962992"/>
                  <a:pt x="2809461" y="954157"/>
                </a:cubicBezTo>
                <a:lnTo>
                  <a:pt x="2769705" y="940904"/>
                </a:lnTo>
                <a:cubicBezTo>
                  <a:pt x="2491409" y="945322"/>
                  <a:pt x="2213021" y="962587"/>
                  <a:pt x="1934818" y="954157"/>
                </a:cubicBezTo>
                <a:cubicBezTo>
                  <a:pt x="1916085" y="953589"/>
                  <a:pt x="1905954" y="929651"/>
                  <a:pt x="1895061" y="914400"/>
                </a:cubicBezTo>
                <a:cubicBezTo>
                  <a:pt x="1883579" y="898324"/>
                  <a:pt x="1877392" y="879061"/>
                  <a:pt x="1868557" y="861391"/>
                </a:cubicBezTo>
                <a:cubicBezTo>
                  <a:pt x="1872974" y="821635"/>
                  <a:pt x="1866424" y="779046"/>
                  <a:pt x="1881809" y="742122"/>
                </a:cubicBezTo>
                <a:cubicBezTo>
                  <a:pt x="1887810" y="727720"/>
                  <a:pt x="1994729" y="666137"/>
                  <a:pt x="2001079" y="662609"/>
                </a:cubicBezTo>
                <a:cubicBezTo>
                  <a:pt x="2018348" y="653015"/>
                  <a:pt x="2036935" y="645905"/>
                  <a:pt x="2054087" y="636104"/>
                </a:cubicBezTo>
                <a:cubicBezTo>
                  <a:pt x="2067916" y="628202"/>
                  <a:pt x="2079205" y="615874"/>
                  <a:pt x="2093844" y="609600"/>
                </a:cubicBezTo>
                <a:cubicBezTo>
                  <a:pt x="2110585" y="602425"/>
                  <a:pt x="2129408" y="601582"/>
                  <a:pt x="2146853" y="596348"/>
                </a:cubicBezTo>
                <a:cubicBezTo>
                  <a:pt x="2213706" y="576292"/>
                  <a:pt x="2226405" y="564382"/>
                  <a:pt x="2292627" y="556591"/>
                </a:cubicBezTo>
                <a:cubicBezTo>
                  <a:pt x="2345455" y="550376"/>
                  <a:pt x="2398725" y="548632"/>
                  <a:pt x="2451653" y="543339"/>
                </a:cubicBezTo>
                <a:cubicBezTo>
                  <a:pt x="2487090" y="539795"/>
                  <a:pt x="2522331" y="534504"/>
                  <a:pt x="2557670" y="530087"/>
                </a:cubicBezTo>
                <a:cubicBezTo>
                  <a:pt x="2575340" y="521252"/>
                  <a:pt x="2596710" y="517552"/>
                  <a:pt x="2610679" y="503583"/>
                </a:cubicBezTo>
                <a:cubicBezTo>
                  <a:pt x="2627054" y="487208"/>
                  <a:pt x="2642515" y="434577"/>
                  <a:pt x="2650435" y="410818"/>
                </a:cubicBezTo>
                <a:cubicBezTo>
                  <a:pt x="2646018" y="344557"/>
                  <a:pt x="2644516" y="278037"/>
                  <a:pt x="2637183" y="212035"/>
                </a:cubicBezTo>
                <a:cubicBezTo>
                  <a:pt x="2635640" y="198151"/>
                  <a:pt x="2631680" y="183901"/>
                  <a:pt x="2623931" y="172278"/>
                </a:cubicBezTo>
                <a:cubicBezTo>
                  <a:pt x="2607065" y="146979"/>
                  <a:pt x="2570744" y="121061"/>
                  <a:pt x="2544418" y="106018"/>
                </a:cubicBezTo>
                <a:cubicBezTo>
                  <a:pt x="2527266" y="96217"/>
                  <a:pt x="2508561" y="89314"/>
                  <a:pt x="2491409" y="79513"/>
                </a:cubicBezTo>
                <a:cubicBezTo>
                  <a:pt x="2477581" y="71611"/>
                  <a:pt x="2466621" y="58452"/>
                  <a:pt x="2451653" y="53009"/>
                </a:cubicBezTo>
                <a:cubicBezTo>
                  <a:pt x="2417419" y="40560"/>
                  <a:pt x="2380193" y="38023"/>
                  <a:pt x="2345635" y="26504"/>
                </a:cubicBezTo>
                <a:cubicBezTo>
                  <a:pt x="2332383" y="22087"/>
                  <a:pt x="2319817" y="14181"/>
                  <a:pt x="2305879" y="13252"/>
                </a:cubicBezTo>
                <a:cubicBezTo>
                  <a:pt x="2186792" y="5313"/>
                  <a:pt x="2067340" y="4417"/>
                  <a:pt x="1948070" y="0"/>
                </a:cubicBezTo>
                <a:cubicBezTo>
                  <a:pt x="1850887" y="4417"/>
                  <a:pt x="1753558" y="6321"/>
                  <a:pt x="1656522" y="13252"/>
                </a:cubicBezTo>
                <a:cubicBezTo>
                  <a:pt x="1629720" y="15166"/>
                  <a:pt x="1603566" y="22418"/>
                  <a:pt x="1577009" y="26504"/>
                </a:cubicBezTo>
                <a:cubicBezTo>
                  <a:pt x="1546137" y="31254"/>
                  <a:pt x="1515166" y="35339"/>
                  <a:pt x="1484244" y="39757"/>
                </a:cubicBezTo>
                <a:cubicBezTo>
                  <a:pt x="1470992" y="48592"/>
                  <a:pt x="1458733" y="59138"/>
                  <a:pt x="1444487" y="66261"/>
                </a:cubicBezTo>
                <a:cubicBezTo>
                  <a:pt x="1383578" y="96715"/>
                  <a:pt x="1421418" y="62826"/>
                  <a:pt x="1391479" y="92765"/>
                </a:cubicBezTo>
                <a:lnTo>
                  <a:pt x="1338470" y="92765"/>
                </a:lnTo>
                <a:lnTo>
                  <a:pt x="1391479" y="92765"/>
                </a:lnTo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6" name="Curved Connector 7"/>
          <p:cNvCxnSpPr/>
          <p:nvPr/>
        </p:nvCxnSpPr>
        <p:spPr>
          <a:xfrm flipH="1" rot="10800000">
            <a:off x="5562360" y="2056680"/>
            <a:ext cx="1372320" cy="534240"/>
          </a:xfrm>
          <a:prstGeom prst="curvedConnector5">
            <a:avLst>
              <a:gd name="adj1" fmla="val -79454"/>
              <a:gd name="adj2" fmla="val 49966"/>
              <a:gd name="adj3" fmla="val -79454"/>
            </a:avLst>
          </a:prstGeom>
          <a:ln w="25560">
            <a:solidFill>
              <a:srgbClr val="ffffff"/>
            </a:solidFill>
            <a:miter/>
          </a:ln>
        </p:spPr>
      </p:cxnSp>
      <p:sp>
        <p:nvSpPr>
          <p:cNvPr id="1067" name="Straight Connector 23"/>
          <p:cNvSpPr/>
          <p:nvPr/>
        </p:nvSpPr>
        <p:spPr>
          <a:xfrm>
            <a:off x="5562720" y="1295280"/>
            <a:ext cx="0" cy="685800"/>
          </a:xfrm>
          <a:prstGeom prst="line">
            <a:avLst/>
          </a:prstGeom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Straight Connector 24"/>
          <p:cNvSpPr/>
          <p:nvPr/>
        </p:nvSpPr>
        <p:spPr>
          <a:xfrm>
            <a:off x="4419720" y="3200400"/>
            <a:ext cx="2514600" cy="0"/>
          </a:xfrm>
          <a:prstGeom prst="line">
            <a:avLst/>
          </a:prstGeom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Straight Connector 26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Straight Connector 31"/>
          <p:cNvSpPr/>
          <p:nvPr/>
        </p:nvSpPr>
        <p:spPr>
          <a:xfrm>
            <a:off x="6934320" y="1295280"/>
            <a:ext cx="0" cy="685800"/>
          </a:xfrm>
          <a:prstGeom prst="line">
            <a:avLst/>
          </a:prstGeom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Straight Connector 32"/>
          <p:cNvSpPr/>
          <p:nvPr/>
        </p:nvSpPr>
        <p:spPr>
          <a:xfrm flipH="1">
            <a:off x="5562720" y="1295280"/>
            <a:ext cx="1371600" cy="0"/>
          </a:xfrm>
          <a:prstGeom prst="line">
            <a:avLst/>
          </a:prstGeom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Straight Connector 35"/>
          <p:cNvSpPr/>
          <p:nvPr/>
        </p:nvSpPr>
        <p:spPr>
          <a:xfrm>
            <a:off x="4419720" y="2514600"/>
            <a:ext cx="0" cy="685800"/>
          </a:xfrm>
          <a:prstGeom prst="line">
            <a:avLst/>
          </a:prstGeom>
          <a:ln w="9360">
            <a:solidFill>
              <a:srgbClr val="ff05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Oval 37"/>
          <p:cNvSpPr/>
          <p:nvPr/>
        </p:nvSpPr>
        <p:spPr>
          <a:xfrm>
            <a:off x="2895480" y="4876920"/>
            <a:ext cx="45720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4" name="Straight Arrow Connector 39"/>
          <p:cNvCxnSpPr/>
          <p:nvPr/>
        </p:nvCxnSpPr>
        <p:spPr>
          <a:xfrm flipH="1">
            <a:off x="3199680" y="4342320"/>
            <a:ext cx="2896200" cy="762840"/>
          </a:xfrm>
          <a:prstGeom prst="straightConnector1">
            <a:avLst/>
          </a:prstGeom>
          <a:ln w="9360">
            <a:solidFill>
              <a:srgbClr val="ff050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“Mch_420.ti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old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 Analysis -&gt; Se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 # of Measurements / Option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 Analysis -&gt; Analyze Partic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nalysis Windo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078" name="Picture 2" descr=""/>
          <p:cNvPicPr/>
          <p:nvPr/>
        </p:nvPicPr>
        <p:blipFill>
          <a:blip r:embed="rId1"/>
          <a:stretch/>
        </p:blipFill>
        <p:spPr>
          <a:xfrm>
            <a:off x="2286000" y="1905120"/>
            <a:ext cx="3978360" cy="4187880"/>
          </a:xfrm>
          <a:prstGeom prst="rect">
            <a:avLst/>
          </a:prstGeom>
          <a:ln w="0">
            <a:noFill/>
          </a:ln>
        </p:spPr>
      </p:pic>
      <p:sp>
        <p:nvSpPr>
          <p:cNvPr id="1079" name="TextBox 5"/>
          <p:cNvSpPr/>
          <p:nvPr/>
        </p:nvSpPr>
        <p:spPr>
          <a:xfrm>
            <a:off x="6858000" y="17524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 Inclus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6"/>
          <p:cNvSpPr/>
          <p:nvPr/>
        </p:nvSpPr>
        <p:spPr>
          <a:xfrm>
            <a:off x="6858000" y="50292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writes original image, when applic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TextBox 7"/>
          <p:cNvSpPr/>
          <p:nvPr/>
        </p:nvSpPr>
        <p:spPr>
          <a:xfrm>
            <a:off x="6781680" y="31240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to view Detected Particl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82" name="Straight Arrow Connector 9"/>
          <p:cNvCxnSpPr>
            <a:stCxn id="1079" idx="1"/>
          </p:cNvCxnSpPr>
          <p:nvPr/>
        </p:nvCxnSpPr>
        <p:spPr>
          <a:xfrm flipH="1">
            <a:off x="5637960" y="2076480"/>
            <a:ext cx="1220040" cy="66744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3" name="Straight Arrow Connector 10"/>
          <p:cNvCxnSpPr/>
          <p:nvPr/>
        </p:nvCxnSpPr>
        <p:spPr>
          <a:xfrm flipH="1">
            <a:off x="5562360" y="3581280"/>
            <a:ext cx="1219680" cy="7668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4" name="Straight Arrow Connector 12"/>
          <p:cNvCxnSpPr/>
          <p:nvPr/>
        </p:nvCxnSpPr>
        <p:spPr>
          <a:xfrm flipH="1" flipV="1">
            <a:off x="5637960" y="5181120"/>
            <a:ext cx="1143720" cy="153360"/>
          </a:xfrm>
          <a:prstGeom prst="straightConnector1">
            <a:avLst/>
          </a:prstGeom>
          <a:ln w="2232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using Threshold, Binary, Math and Particle Analy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1 – Segment Objects for Clean Cou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r All Windows, Re-Open “Mch_420.tif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Edit-&gt; Duplicate. Work on 420-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Threshold -&gt; App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Binary -&gt; Watersh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Binary -&gt; Ero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**Good Segmented Binary Image is now Comple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2 – Apply Segment to Original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ate Binary Image (click on 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Image -&gt; Type -&gt; 16 B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Process -&gt; Math -&gt; Multiply (2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Edit -&gt; Inve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e is Ready for Calcu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Process -&gt; Image Calcul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Ref A= Mch_420 (Original) and Ref B = Mch_420_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ion = Subtract -&gt; Check “New Window” –A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rocessing Overview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algorithms in microscop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o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ter Categories and 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meter Control &amp; Scrip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090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6134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3 – Analyz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shold Image (DO NOT Click “App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Analyze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inimum object area to 40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def6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How do filters affect data integrity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es are excel fi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ters are mathematical calc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same input the output never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change amounts can be measurably determined (difference between raw &amp; proces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ypes of image process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rnel conv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ithmetic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phological conv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ernel Convolu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914400" y="1676520"/>
            <a:ext cx="7315200" cy="457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4"/>
          <p:cNvSpPr/>
          <p:nvPr/>
        </p:nvSpPr>
        <p:spPr>
          <a:xfrm>
            <a:off x="914400" y="1676520"/>
            <a:ext cx="45720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5"/>
          <p:cNvSpPr/>
          <p:nvPr/>
        </p:nvSpPr>
        <p:spPr>
          <a:xfrm>
            <a:off x="914400" y="1676520"/>
            <a:ext cx="3657600" cy="3886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6"/>
          <p:cNvSpPr/>
          <p:nvPr/>
        </p:nvSpPr>
        <p:spPr>
          <a:xfrm>
            <a:off x="914400" y="167652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7"/>
          <p:cNvSpPr/>
          <p:nvPr/>
        </p:nvSpPr>
        <p:spPr>
          <a:xfrm>
            <a:off x="2133720" y="1676520"/>
            <a:ext cx="121896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Rectangle 8"/>
          <p:cNvSpPr/>
          <p:nvPr/>
        </p:nvSpPr>
        <p:spPr>
          <a:xfrm>
            <a:off x="3352680" y="167652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9"/>
          <p:cNvSpPr/>
          <p:nvPr/>
        </p:nvSpPr>
        <p:spPr>
          <a:xfrm>
            <a:off x="914400" y="297180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10"/>
          <p:cNvSpPr/>
          <p:nvPr/>
        </p:nvSpPr>
        <p:spPr>
          <a:xfrm>
            <a:off x="2133720" y="2971800"/>
            <a:ext cx="121896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11"/>
          <p:cNvSpPr/>
          <p:nvPr/>
        </p:nvSpPr>
        <p:spPr>
          <a:xfrm>
            <a:off x="3352680" y="2971800"/>
            <a:ext cx="1219320" cy="129528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12"/>
          <p:cNvSpPr/>
          <p:nvPr/>
        </p:nvSpPr>
        <p:spPr>
          <a:xfrm>
            <a:off x="914400" y="4267080"/>
            <a:ext cx="1219320" cy="1295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13"/>
          <p:cNvSpPr/>
          <p:nvPr/>
        </p:nvSpPr>
        <p:spPr>
          <a:xfrm>
            <a:off x="2133720" y="4267080"/>
            <a:ext cx="1218960" cy="1295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14"/>
          <p:cNvSpPr/>
          <p:nvPr/>
        </p:nvSpPr>
        <p:spPr>
          <a:xfrm>
            <a:off x="3352680" y="4267080"/>
            <a:ext cx="1219320" cy="129564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250" autoRev="1" fill="hold"/>
                                        <p:tgtEl>
                                          <p:spTgt spid="9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9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250" autoRev="1" fill="hold"/>
                                        <p:tgtEl>
                                          <p:spTgt spid="9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250" autoRev="1" fill="hold"/>
                                        <p:tgtEl>
                                          <p:spTgt spid="9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" autoRev="1" fill="hold"/>
                                        <p:tgtEl>
                                          <p:spTgt spid="9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250" autoRev="1" fill="hold"/>
                                        <p:tgtEl>
                                          <p:spTgt spid="9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9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2" dur="250" autoRev="1" fill="hold"/>
                                        <p:tgtEl>
                                          <p:spTgt spid="9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" dur="250" autoRev="1" fill="hold"/>
                                        <p:tgtEl>
                                          <p:spTgt spid="9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22222E-006 L 0.74167 2.22222E-006 E">
                                      <p:cBhvr>
                                        <p:cTn id="166" dur="2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167 2.22222E-006 L 0.74167 0.1 E">
                                      <p:cBhvr>
                                        <p:cTn id="169" dur="2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167 0.1 L 0 0.1 E">
                                      <p:cBhvr>
                                        <p:cTn id="172" dur="2000" fill="hold"/>
                                        <p:tgtEl>
                                          <p:spTgt spid="9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ry it ou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supplied image “Shapes.ti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Image -&gt;Adjust -&gt; Brightness/Contra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to your pre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Process -&gt; Filters -&gt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ussian Radius 1, Preview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, Preview 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al World Us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“Smooth Example.ti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old the i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age -&gt; Adjust -&gt; Thresho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n Gaussian Fil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shold the im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Why use Binaries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a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regional processing within an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Multiple layer arithmetic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act with regions for advanced measur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t areas between two po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 regions outside or inside of a definable bound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small objects (organelles/processes) within a larger object (cel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7:16:06Z</dcterms:created>
  <dc:creator>Administrator</dc:creator>
  <dc:description/>
  <dc:language>en-US</dc:language>
  <cp:lastModifiedBy>Admin</cp:lastModifiedBy>
  <dcterms:modified xsi:type="dcterms:W3CDTF">2011-01-23T19:42:39Z</dcterms:modified>
  <cp:revision>86</cp:revision>
  <dc:subject/>
  <dc:title>Image Analysis and Processing</dc:title>
</cp:coreProperties>
</file>